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2D6-A512-474C-A1E0-18E19970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465-139C-4CC4-AA96-5A95AE45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64D-3BB4-446B-B64D-E5313662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1DA-8FBE-4883-BFF7-BFFF3D42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B37F-271D-4BCB-95BF-65DF912E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D1EA-FFDA-417A-BCB8-880CF737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2242-539F-4963-B191-27AC70B1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4F87-D2E5-4F95-968D-7287207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8999-53A1-45AE-9013-0E68A20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32AC-6884-4F2B-94EF-BAE07254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C481-CCDB-4439-972B-7DFB36B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175-0CE3-4199-A385-F2928D3D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4AB1-5780-4DDF-90BB-E86287B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7BE6-E6A0-4999-AB00-CF0F3424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B172-4D52-4B67-81E9-951F573F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C027-1AD9-4A9A-BBD6-68952F3A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7789-EABE-4794-B281-FB294D0B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B88-E7EA-41C0-8D35-0426FDBD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93C-C68A-4685-8AE3-BD64A435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ED4-C42D-409D-B594-5BF1B28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9E4-0A28-4BB4-8C75-8AB31CE1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5DF-24F8-4D81-ABD1-1BB469A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D6F-4F06-410B-8F26-1CDAC4EF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51B-1AA6-44EB-9F4C-0C0B427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5239-FBC5-4A3A-B8B6-3CE9A95F9A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E463-3D68-4D40-B6B2-78EC4C3183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tiveX and The We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chitecture &amp; Technical Overvie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A scalable programming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02436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7242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0040" y="193212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67360" y="157176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3040" y="196848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582960" y="2114640"/>
            <a:ext cx="35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858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40" y="1434960"/>
            <a:ext cx="375264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same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direct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6520" y="36734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172280" y="331308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7960" y="3710160"/>
            <a:ext cx="253800" cy="25380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88240" y="385596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827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4167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43480" y="3487680"/>
            <a:ext cx="898560" cy="749520"/>
          </a:xfrm>
          <a:prstGeom prst="cube">
            <a:avLst>
              <a:gd name="adj" fmla="val 12495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10032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827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1520" y="3112920"/>
            <a:ext cx="124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6560" y="3114720"/>
            <a:ext cx="130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557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48156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20" y="3176640"/>
            <a:ext cx="37530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secure I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9520" y="4883040"/>
            <a:ext cx="3753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, reliable and flexi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E-RPC bas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6102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52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95760" y="5270400"/>
            <a:ext cx="594000" cy="901800"/>
          </a:xfrm>
          <a:prstGeom prst="cube">
            <a:avLst>
              <a:gd name="adj" fmla="val 17194"/>
            </a:avLst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9320" y="553248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46040" y="4897440"/>
            <a:ext cx="131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77240" y="4898880"/>
            <a:ext cx="12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809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86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8304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187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526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9480" y="517212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5160" y="556884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45440" y="571500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56865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959360" y="1819440"/>
            <a:ext cx="3949560" cy="372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1819440"/>
            <a:ext cx="3949560" cy="440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360" y="502920"/>
            <a:ext cx="88552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/DCOM</a:t>
            </a:r>
            <a:br>
              <a:rPr sz="4000"/>
            </a:br>
            <a:r>
              <a:rPr b="0" i="1" lang="en-US" sz="2800" spc="-1" strike="noStrike">
                <a:solidFill>
                  <a:srgbClr val="808000"/>
                </a:solidFill>
                <a:latin typeface="Arial Black"/>
              </a:rPr>
              <a:t>Lets ActiveX components run anywh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3641040" y="3948120"/>
            <a:ext cx="2163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" y="9452"/>
                </a:moveTo>
                <a:arcTo wR="10800" hR="10800" stAng="-10369687" swAng="9738495"/>
                <a:lnTo>
                  <a:pt x="10800" y="10800"/>
                </a:lnTo>
                <a:close/>
              </a:path>
              <a:path fill="none" w="21600" h="21600">
                <a:moveTo>
                  <a:pt x="84" y="9452"/>
                </a:moveTo>
                <a:arcTo wR="10800" hR="10800" stAng="-10369687" swAng="9738495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95680" y="4861080"/>
            <a:ext cx="230400" cy="839520"/>
            <a:chOff x="4495680" y="4861080"/>
            <a:chExt cx="230400" cy="839520"/>
          </a:xfrm>
        </p:grpSpPr>
        <p:sp>
          <p:nvSpPr>
            <p:cNvPr id="218" name=""/>
            <p:cNvSpPr/>
            <p:nvPr/>
          </p:nvSpPr>
          <p:spPr>
            <a:xfrm>
              <a:off x="449568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16200000">
            <a:off x="4100400" y="387720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4556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2480" y="326376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 object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3886560" y="2498760"/>
            <a:ext cx="18367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37879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37879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38520" y="2117880"/>
            <a:ext cx="235080" cy="839520"/>
            <a:chOff x="4538520" y="2117880"/>
            <a:chExt cx="235080" cy="839520"/>
          </a:xfrm>
        </p:grpSpPr>
        <p:sp>
          <p:nvSpPr>
            <p:cNvPr id="225" name=""/>
            <p:cNvSpPr/>
            <p:nvPr/>
          </p:nvSpPr>
          <p:spPr>
            <a:xfrm>
              <a:off x="453852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628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0" y="30322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0480" y="242712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501804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1447920" y="3637440"/>
            <a:ext cx="1218240" cy="122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75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7529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1982880" y="3714840"/>
            <a:ext cx="1218600" cy="122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48" y="21515"/>
                </a:moveTo>
                <a:arcTo wR="10800" hR="10800" stAng="5831367" swAng="10359692"/>
                <a:lnTo>
                  <a:pt x="10800" y="10800"/>
                </a:lnTo>
                <a:close/>
              </a:path>
              <a:path fill="none" w="21600" h="21600">
                <a:moveTo>
                  <a:pt x="9448" y="21515"/>
                </a:moveTo>
                <a:arcTo wR="10800" hR="10800" stAng="5831367" swAng="10359692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35920" y="408312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4251240"/>
            <a:ext cx="839880" cy="230400"/>
            <a:chOff x="2666880" y="4251240"/>
            <a:chExt cx="839880" cy="230400"/>
          </a:xfrm>
        </p:grpSpPr>
        <p:sp>
          <p:nvSpPr>
            <p:cNvPr id="234" name=""/>
            <p:cNvSpPr/>
            <p:nvPr/>
          </p:nvSpPr>
          <p:spPr>
            <a:xfrm>
              <a:off x="266688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914400" y="4251240"/>
            <a:ext cx="839880" cy="230400"/>
            <a:chOff x="914400" y="4251240"/>
            <a:chExt cx="839880" cy="230400"/>
          </a:xfrm>
        </p:grpSpPr>
        <p:sp>
          <p:nvSpPr>
            <p:cNvPr id="237" name=""/>
            <p:cNvSpPr/>
            <p:nvPr/>
          </p:nvSpPr>
          <p:spPr>
            <a:xfrm>
              <a:off x="91440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Control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are components that can be manipulated visually by GUI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ion between design-time and run-time user-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that makes the Web come al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ble by other components and scri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60280" y="4913280"/>
            <a:ext cx="8623440" cy="1645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IGN=CENTER CLASSID="clsid:99B42120-6EC7-11CF-A6C7-00AA00A47DD2" WIDTH=200 HEIGHT=200 ID=MyObject     CODEBASE="http://foo/bar/myoc.ocx#ver=4,70,0,106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ARAM NAME="ScrollStyleX" VALUE="Circula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OBJEC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Controls To HT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3C &lt;OBJECT&gt;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MBED&gt; also supported for plug-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= name used by script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D=Globally unique identifier for the ActiveX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= Control to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ARAM&gt; = Properties of the Contr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3812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and Java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What is Java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50880" y="1568160"/>
            <a:ext cx="604224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/Byte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57600" y="4578480"/>
            <a:ext cx="2590920" cy="1815840"/>
            <a:chOff x="4557600" y="4578480"/>
            <a:chExt cx="2590920" cy="1815840"/>
          </a:xfrm>
        </p:grpSpPr>
        <p:sp>
          <p:nvSpPr>
            <p:cNvPr id="247" name=""/>
            <p:cNvSpPr/>
            <p:nvPr/>
          </p:nvSpPr>
          <p:spPr>
            <a:xfrm>
              <a:off x="4654440" y="4578480"/>
              <a:ext cx="242568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3040" y="5264280"/>
              <a:ext cx="2044800" cy="762840"/>
            </a:xfrm>
            <a:prstGeom prst="rect">
              <a:avLst/>
            </a:prstGeom>
            <a:gradFill rotWithShape="0">
              <a:gsLst>
                <a:gs pos="0">
                  <a:srgbClr val="e45b00"/>
                </a:gs>
                <a:gs pos="50000">
                  <a:srgbClr val="ff6600"/>
                </a:gs>
                <a:gs pos="100000">
                  <a:srgbClr val="e45b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irtual Machine (VM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57600" y="4648320"/>
              <a:ext cx="2590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ternet Brows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035000" y="2978280"/>
            <a:ext cx="280692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 Develop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3040" y="2978280"/>
            <a:ext cx="204480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886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360" y="503280"/>
            <a:ext cx="88552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mplements Jav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415520"/>
            <a:ext cx="8076960" cy="36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Java DO NOT COMPET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a set of integration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Java ob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ActiveX obj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VM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Java applets in any application, not just brow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component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74800" y="2216160"/>
            <a:ext cx="2554200" cy="141300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++, VB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4800" y="3862440"/>
            <a:ext cx="2554200" cy="16239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BScript, JScrip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60680" y="3252960"/>
            <a:ext cx="253044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99040" y="3086280"/>
            <a:ext cx="2276640" cy="1457280"/>
            <a:chOff x="5999040" y="3086280"/>
            <a:chExt cx="2276640" cy="1457280"/>
          </a:xfrm>
        </p:grpSpPr>
        <p:sp>
          <p:nvSpPr>
            <p:cNvPr id="262" name=""/>
            <p:cNvSpPr/>
            <p:nvPr/>
          </p:nvSpPr>
          <p:spPr>
            <a:xfrm>
              <a:off x="6459480" y="3110040"/>
              <a:ext cx="1797120" cy="9968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999040" y="3086280"/>
              <a:ext cx="2276640" cy="1457280"/>
              <a:chOff x="5999040" y="3086280"/>
              <a:chExt cx="2276640" cy="145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999040" y="3086280"/>
                <a:ext cx="346320" cy="1457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5520" y="4205520"/>
                <a:ext cx="2270160" cy="3380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e574e"/>
                    </a:solidFill>
                    <a:latin typeface="Arial"/>
                  </a:rPr>
                  <a:t>ActiveX Java V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3478320" y="4230720"/>
            <a:ext cx="2493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2920" y="3328920"/>
            <a:ext cx="2685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’s Java Commit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is hard core about Java th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 Java VM for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Just-in-Time Java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J++ development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upport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is the best execution environment fo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safest, most 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will compete with Java the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ing the Risks of Downloaded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o absolute security guarant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-signing and sandbox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ary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supports both to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Authenticode™, works with ActiveX controls, Java applets, plug-i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ing - most secure Java VM, VB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industry is following to support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Active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/DCOM, Controls, Java™ Applets, Documents, Scrip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Internet Explorer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the browser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usabl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-signing and Sandbox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“shrinkwraps”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publisher; validates integrity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 or malicious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accountability for market and legal re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 - code isolated inside virtual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; limits malicious operation by limiting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common denominator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es on airtight implementation, proven difficult in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4886280" y="1709640"/>
          <a:ext cx="37720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709640"/>
                    <a:ext cx="37720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henticode™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-signing feature in Internet Explorer 3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industry standard certificates (X.50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ge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actual relationship with multiple certificate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end users or administrators to set “trust polici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Documen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users view and edit non-HTML documents through the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entire client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printing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 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xisting documents into browser or any other applic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 Script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for rapid “wiring” together of diverse set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any scripting language - VBScript, JScript, Perl, PowerScript, Tck/Tk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s are the most broadly accessible develop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plus HTML is the fastest and easiest cross platform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Explorer 3.0 ships with VBScript, JScript run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4440" y="502920"/>
            <a:ext cx="865512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ripting: A Simple Solution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Pioneered by Visual Bas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77600" y="2199960"/>
            <a:ext cx="7537320" cy="27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expose events for the purpose of coordinating their activity with the rest of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ipt code can be attached to an object’s events to customize behavior - this is “script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547560" y="4908600"/>
            <a:ext cx="1476360" cy="1206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760" y="4781520"/>
            <a:ext cx="1562040" cy="1562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2560" y="4908600"/>
            <a:ext cx="4403880" cy="1189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Button_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Box “Hello wor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3B2-2276-4CF9-9AC8-6A5FE991B753}" type="slidenum">
              <a:t>24</a:t>
            </a:fld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fast, and 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s both ActiveX Controls and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subset of Visual Basic fo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compatible with Visual 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to Internet Explorer 3.0 and Windows NT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3 million users familiar with Visual 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 for easy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lients,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censable, not just for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5AC-B99B-45CD-BED8-6AA3753379CB}" type="slidenum">
              <a:t>25</a:t>
            </a:fld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performance JavaScript-compatible 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secure than 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related to Java only by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Netscape proprietary despite public commi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cript and VBScript source licensable (fre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ps with Internet Explorer 3.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8520" y="502920"/>
            <a:ext cx="88869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ase Study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Componentizing” Internet Explorer 3.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966680"/>
            <a:ext cx="8353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world application - target audience 100+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 PC inves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upport open existing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icrosoft and developer community forward together in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cen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h yeah, and ship it in nine months (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1904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Explorer 2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41588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573440" y="1415880"/>
            <a:ext cx="46198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lithic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usable pa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or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rough proprietary means (hac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5576760" y="1230480"/>
            <a:ext cx="2743200" cy="3797280"/>
            <a:chOff x="5576760" y="1230480"/>
            <a:chExt cx="2743200" cy="3797280"/>
          </a:xfrm>
        </p:grpSpPr>
        <p:sp>
          <p:nvSpPr>
            <p:cNvPr id="298" name=""/>
            <p:cNvSpPr/>
            <p:nvPr/>
          </p:nvSpPr>
          <p:spPr>
            <a:xfrm>
              <a:off x="5583240" y="12304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b18d00"/>
                </a:gs>
                <a:gs pos="5000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76760" y="1239840"/>
              <a:ext cx="2743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i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11840" y="336384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fice Bi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11840" y="4125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sa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1840" y="1839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 Explo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11840" y="260208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indows Sh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5811840" y="1839960"/>
            <a:ext cx="2197080" cy="5968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70400" y="1687680"/>
            <a:ext cx="3657600" cy="3797280"/>
            <a:chOff x="5270400" y="1687680"/>
            <a:chExt cx="3657600" cy="3797280"/>
          </a:xfrm>
        </p:grpSpPr>
        <p:sp>
          <p:nvSpPr>
            <p:cNvPr id="307" name=""/>
            <p:cNvSpPr/>
            <p:nvPr/>
          </p:nvSpPr>
          <p:spPr>
            <a:xfrm>
              <a:off x="5734080" y="16876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62680" y="229716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0080" y="2900520"/>
              <a:ext cx="22860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2680" y="3503520"/>
              <a:ext cx="2273400" cy="47016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62680" y="410688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2680" y="471024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croGra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0400" y="1697040"/>
              <a:ext cx="3657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62680" y="2297160"/>
            <a:ext cx="22734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50080" y="2900520"/>
            <a:ext cx="22860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730840" y="2220840"/>
            <a:ext cx="3197160" cy="2425680"/>
            <a:chOff x="5730840" y="2220840"/>
            <a:chExt cx="3197160" cy="2425680"/>
          </a:xfrm>
        </p:grpSpPr>
        <p:sp>
          <p:nvSpPr>
            <p:cNvPr id="317" name=""/>
            <p:cNvSpPr/>
            <p:nvPr/>
          </p:nvSpPr>
          <p:spPr>
            <a:xfrm>
              <a:off x="5964120" y="2220840"/>
              <a:ext cx="2730600" cy="2425680"/>
            </a:xfrm>
            <a:prstGeom prst="rect">
              <a:avLst/>
            </a:prstGeom>
            <a:gradFill rotWithShape="0">
              <a:gsLst>
                <a:gs pos="0">
                  <a:srgbClr val="9943b3"/>
                </a:gs>
                <a:gs pos="50000">
                  <a:srgbClr val="c055e1"/>
                </a:gs>
                <a:gs pos="100000">
                  <a:srgbClr val="9943b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0640" y="3363840"/>
              <a:ext cx="8254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PE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92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92720" y="3363840"/>
              <a:ext cx="12826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16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30840" y="223056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2720" y="3973680"/>
              <a:ext cx="135900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ockw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16960" y="3973680"/>
              <a:ext cx="74916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D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92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16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30840" y="4659480"/>
            <a:ext cx="3197160" cy="1815840"/>
            <a:chOff x="5730840" y="4659480"/>
            <a:chExt cx="3197160" cy="1815840"/>
          </a:xfrm>
        </p:grpSpPr>
        <p:sp>
          <p:nvSpPr>
            <p:cNvPr id="328" name=""/>
            <p:cNvSpPr/>
            <p:nvPr/>
          </p:nvSpPr>
          <p:spPr>
            <a:xfrm>
              <a:off x="5964120" y="4659480"/>
              <a:ext cx="273060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4880" y="5176800"/>
              <a:ext cx="1447920" cy="66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ual Basic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92720" y="5802480"/>
              <a:ext cx="1282680" cy="444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43800" y="5176800"/>
              <a:ext cx="10494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30840" y="466884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scrip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1400" y="5786280"/>
              <a:ext cx="9018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014880" y="5176800"/>
            <a:ext cx="1447920" cy="5367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2720" y="5802480"/>
            <a:ext cx="1282680" cy="44424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5080" y="5423040"/>
            <a:ext cx="7073640" cy="1358640"/>
            <a:chOff x="235080" y="5423040"/>
            <a:chExt cx="7073640" cy="1358640"/>
          </a:xfrm>
        </p:grpSpPr>
        <p:sp>
          <p:nvSpPr>
            <p:cNvPr id="337" name=""/>
            <p:cNvSpPr/>
            <p:nvPr/>
          </p:nvSpPr>
          <p:spPr>
            <a:xfrm>
              <a:off x="235080" y="5423040"/>
              <a:ext cx="7073640" cy="13586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50000">
                  <a:srgbClr val="996633"/>
                </a:gs>
                <a:gs pos="100000">
                  <a:srgbClr val="6a462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6400" y="5661000"/>
              <a:ext cx="1427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11240" y="5575320"/>
              <a:ext cx="16639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RL 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TTP, F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680" y="5575320"/>
              <a:ext cx="152064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yperli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vor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6560" y="5575320"/>
              <a:ext cx="16621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de down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440" y="1201680"/>
            <a:ext cx="4991040" cy="380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30480" y="1415880"/>
            <a:ext cx="6683040" cy="190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oad Industry Supp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highest performance, “no compromises”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richest and most robust array of programming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and open support for industry standards: HTTP, HTML, TCP/IP, Jav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ed, accountable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on solid, proven foundation of 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Cho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 and match from huge industry arsenal of tools, languages, code and 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pplications for Intern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/or 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components in the browser or other applications (any contain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with any tool or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Macintosh®, UNIX® and Windows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components using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Broadest industry suppor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proven, compatible, third generati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oday from over 1,000 controls from hundreds of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ga Information Group: $240 million industry in 1996, growing to over $2 billion by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components in the most popular ap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Office, Internet Explorer, Lotus® Notes, Lotus SmartSuite®, Sybase® 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with familiar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Visual C++, Microsoft Visual Basic, Borland C++, Borland Delphi, Java and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the first and only component technology to achieve commercial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’s thriving ActiveX software component industry makes it quick and easy to build great web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ized architecture is not just the future; it is here today with Activ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1120" t="1959" r="1569" b="737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502920"/>
            <a:ext cx="89913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Web Today: “Islands” of Cod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60360" y="15048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5048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063320" y="30193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46320" y="3705120"/>
            <a:ext cx="14576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91080" y="50767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880" y="51084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3320" y="36291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99520" y="46958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02920"/>
            <a:ext cx="914256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ridges the “Islands”</a:t>
            </a:r>
            <a:br>
              <a:rPr sz="4000"/>
            </a:br>
            <a:r>
              <a:rPr b="0" i="1" lang="en-US" sz="2400" spc="-1" strike="noStrike">
                <a:solidFill>
                  <a:srgbClr val="808000"/>
                </a:solidFill>
                <a:latin typeface="Arial Black"/>
              </a:rPr>
              <a:t>Makes it easy to integrate and reuse any compon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60360" y="17334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7334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063320" y="32479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98720" y="3933720"/>
            <a:ext cx="17564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7840" y="53053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880" y="53370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13320" y="38577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9520" y="49244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8520" y="4140360"/>
            <a:ext cx="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5520" y="4140360"/>
            <a:ext cx="228600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95520" y="4216320"/>
            <a:ext cx="2286000" cy="99072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120" y="503280"/>
            <a:ext cx="87537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tion For ActiveX</a:t>
            </a:r>
            <a:br>
              <a:rPr sz="4000"/>
            </a:br>
            <a:r>
              <a:rPr b="0" i="1" lang="en-US" sz="2200" spc="-1" strike="noStrike">
                <a:solidFill>
                  <a:srgbClr val="808000"/>
                </a:solidFill>
                <a:latin typeface="Arial Black"/>
              </a:rPr>
              <a:t>Bring Component-based Development to the Intern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Developers - want to easily create, reuse and integrate softwar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roducers - want to build rich, engaging Web sites quickly and easi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Users - want an intriguing, exciting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92600" y="1835280"/>
            <a:ext cx="4330800" cy="4559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10360" y="32259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6306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6520" y="257508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4160" y="34894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5200" y="5241960"/>
            <a:ext cx="16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160" y="104400"/>
            <a:ext cx="90676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-ba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Develo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240" y="1378080"/>
            <a:ext cx="3581280" cy="4730760"/>
            <a:chOff x="57240" y="1378080"/>
            <a:chExt cx="3581280" cy="4730760"/>
          </a:xfrm>
        </p:grpSpPr>
        <p:grpSp>
          <p:nvGrpSpPr>
            <p:cNvPr id="123" name=""/>
            <p:cNvGrpSpPr/>
            <p:nvPr/>
          </p:nvGrpSpPr>
          <p:grpSpPr>
            <a:xfrm>
              <a:off x="57240" y="1378080"/>
              <a:ext cx="3581280" cy="4730760"/>
              <a:chOff x="57240" y="1378080"/>
              <a:chExt cx="3581280" cy="4730760"/>
            </a:xfrm>
          </p:grpSpPr>
          <p:sp>
            <p:nvSpPr>
              <p:cNvPr id="124" name=""/>
              <p:cNvSpPr/>
              <p:nvPr/>
            </p:nvSpPr>
            <p:spPr>
              <a:xfrm>
                <a:off x="57240" y="3333600"/>
                <a:ext cx="3581280" cy="27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tiveX Contr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-fabricated compon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ckaged by  program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s for animation,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video, sound, 3D,  etc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 visual and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design-time behavi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826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68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77760" y="198756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4480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16200" y="1987560"/>
                <a:ext cx="44424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34960" y="137808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1" name=""/>
            <p:cNvGraphicFramePr/>
            <p:nvPr/>
          </p:nvGraphicFramePr>
          <p:xfrm>
            <a:off x="2066760" y="2771640"/>
            <a:ext cx="352440" cy="3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6760" y="2771640"/>
                      <a:ext cx="3524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615960" y="2784600"/>
            <a:ext cx="355680" cy="33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960" y="2784600"/>
                      <a:ext cx="35568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1300320" y="2766960"/>
            <a:ext cx="357120" cy="35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00320" y="2766960"/>
                      <a:ext cx="3571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2876400" y="1476360"/>
            <a:ext cx="4114800" cy="4346640"/>
            <a:chOff x="2876400" y="1476360"/>
            <a:chExt cx="4114800" cy="4346640"/>
          </a:xfrm>
        </p:grpSpPr>
        <p:grpSp>
          <p:nvGrpSpPr>
            <p:cNvPr id="138" name=""/>
            <p:cNvGrpSpPr/>
            <p:nvPr/>
          </p:nvGrpSpPr>
          <p:grpSpPr>
            <a:xfrm>
              <a:off x="2876400" y="3352680"/>
              <a:ext cx="4114800" cy="2470320"/>
              <a:chOff x="2876400" y="3352680"/>
              <a:chExt cx="4114800" cy="247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2876400" y="358128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74960" y="3352680"/>
                <a:ext cx="3216240" cy="247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diting and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yout To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cre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isual content lay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grated scrip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utton publis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manag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890880" y="1476360"/>
              <a:ext cx="1805040" cy="1785960"/>
              <a:chOff x="3890880" y="1476360"/>
              <a:chExt cx="1805040" cy="17859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6520" y="2249640"/>
                <a:ext cx="779400" cy="101268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</p:pic>
          <p:pic>
            <p:nvPicPr>
              <p:cNvPr id="1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09920" y="1784520"/>
                <a:ext cx="843120" cy="10350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5e574e"/>
                </a:outerShdw>
              </a:effectLst>
            </p:spPr>
          </p:pic>
          <p:pic>
            <p:nvPicPr>
              <p:cNvPr id="14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90880" y="1476360"/>
                <a:ext cx="790560" cy="1031760"/>
              </a:xfrm>
              <a:prstGeom prst="rect">
                <a:avLst/>
              </a:prstGeom>
              <a:ln w="12600">
                <a:solidFill>
                  <a:srgbClr val="5e574e"/>
                </a:solidFill>
                <a:miter/>
              </a:ln>
            </p:spPr>
          </p:pic>
        </p:grpSp>
      </p:grpSp>
      <p:grpSp>
        <p:nvGrpSpPr>
          <p:cNvPr id="145" name=""/>
          <p:cNvGrpSpPr/>
          <p:nvPr/>
        </p:nvGrpSpPr>
        <p:grpSpPr>
          <a:xfrm>
            <a:off x="5848200" y="1301760"/>
            <a:ext cx="3239280" cy="4342680"/>
            <a:chOff x="5848200" y="1301760"/>
            <a:chExt cx="3239280" cy="4342680"/>
          </a:xfrm>
        </p:grpSpPr>
        <p:grpSp>
          <p:nvGrpSpPr>
            <p:cNvPr id="146" name=""/>
            <p:cNvGrpSpPr/>
            <p:nvPr/>
          </p:nvGrpSpPr>
          <p:grpSpPr>
            <a:xfrm>
              <a:off x="5848200" y="3352680"/>
              <a:ext cx="3239280" cy="2291760"/>
              <a:chOff x="5848200" y="3352680"/>
              <a:chExt cx="3239280" cy="229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5848200" y="356220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881040" y="3352680"/>
                <a:ext cx="2206440" cy="2291760"/>
                <a:chOff x="6881040" y="3352680"/>
                <a:chExt cx="2206440" cy="22917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887880" y="3352680"/>
                  <a:ext cx="2199600" cy="94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High Impact </a:t>
                  </a:r>
                  <a:br>
                    <a:rPr sz="2800"/>
                  </a:b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81040" y="4332240"/>
                  <a:ext cx="184464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ntertain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mer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formation 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gather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7118280" y="1301760"/>
              <a:ext cx="1608120" cy="1892160"/>
            </a:xfrm>
            <a:prstGeom prst="rect">
              <a:avLst/>
            </a:prstGeom>
            <a:ln w="12600">
              <a:solidFill>
                <a:srgbClr val="ff6600"/>
              </a:solidFill>
              <a:miter/>
            </a:ln>
          </p:spPr>
        </p:pic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8280" y="503280"/>
            <a:ext cx="840744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ments Of Active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920880" y="4127400"/>
            <a:ext cx="7302240" cy="635040"/>
          </a:xfrm>
          <a:prstGeom prst="rect">
            <a:avLst/>
          </a:prstGeom>
          <a:gradFill rotWithShape="0">
            <a:gsLst>
              <a:gs pos="0">
                <a:srgbClr val="b18d00"/>
              </a:gs>
              <a:gs pos="50000">
                <a:srgbClr val="ffcc00"/>
              </a:gs>
              <a:gs pos="100000">
                <a:srgbClr val="b18d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Object Model (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component pack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9080" y="4933800"/>
            <a:ext cx="7317000" cy="749520"/>
            <a:chOff x="919080" y="4933800"/>
            <a:chExt cx="7317000" cy="749520"/>
          </a:xfrm>
        </p:grpSpPr>
        <p:sp>
          <p:nvSpPr>
            <p:cNvPr id="155" name=""/>
            <p:cNvSpPr/>
            <p:nvPr/>
          </p:nvSpPr>
          <p:spPr>
            <a:xfrm>
              <a:off x="919080" y="4933800"/>
              <a:ext cx="212112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ndows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0520" y="4933800"/>
              <a:ext cx="209556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X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4400" y="4933800"/>
              <a:ext cx="209520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cintosh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" y="4876920"/>
            <a:ext cx="8840880" cy="1906560"/>
            <a:chOff x="228600" y="4876920"/>
            <a:chExt cx="8840880" cy="1906560"/>
          </a:xfrm>
        </p:grpSpPr>
        <p:sp>
          <p:nvSpPr>
            <p:cNvPr id="159" name=""/>
            <p:cNvSpPr/>
            <p:nvPr/>
          </p:nvSpPr>
          <p:spPr>
            <a:xfrm>
              <a:off x="228600" y="5791320"/>
              <a:ext cx="8840880" cy="992160"/>
            </a:xfrm>
            <a:custGeom>
              <a:avLst/>
              <a:gdLst/>
              <a:ahLst/>
              <a:rect l="l" t="t" r="r" b="b"/>
              <a:pathLst>
                <a:path w="5569" h="625">
                  <a:moveTo>
                    <a:pt x="0" y="267"/>
                  </a:moveTo>
                  <a:lnTo>
                    <a:pt x="1392" y="0"/>
                  </a:lnTo>
                  <a:lnTo>
                    <a:pt x="1392" y="89"/>
                  </a:lnTo>
                  <a:lnTo>
                    <a:pt x="4176" y="89"/>
                  </a:lnTo>
                  <a:lnTo>
                    <a:pt x="4176" y="0"/>
                  </a:lnTo>
                  <a:lnTo>
                    <a:pt x="5568" y="356"/>
                  </a:lnTo>
                  <a:lnTo>
                    <a:pt x="4176" y="624"/>
                  </a:lnTo>
                  <a:lnTo>
                    <a:pt x="4176" y="534"/>
                  </a:lnTo>
                  <a:lnTo>
                    <a:pt x="1392" y="534"/>
                  </a:lnTo>
                  <a:lnTo>
                    <a:pt x="1392" y="624"/>
                  </a:lnTo>
                  <a:lnTo>
                    <a:pt x="0" y="267"/>
                  </a:lnTo>
                </a:path>
              </a:pathLst>
            </a:cu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51240" y="6080040"/>
              <a:ext cx="424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ributed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/distributed comp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20880" y="3403440"/>
            <a:ext cx="7302240" cy="7113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s, hyperlinking, browser frame, HTML, Java V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7640" y="2673360"/>
            <a:ext cx="7305480" cy="749160"/>
          </a:xfrm>
          <a:prstGeom prst="rect">
            <a:avLst/>
          </a:prstGeom>
          <a:gradFill rotWithShape="0">
            <a:gsLst>
              <a:gs pos="0">
                <a:srgbClr val="853b9c"/>
              </a:gs>
              <a:gs pos="50000">
                <a:srgbClr val="c055e1"/>
              </a:gs>
              <a:gs pos="100000">
                <a:srgbClr val="853b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s and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++, Delphi®, Java, Visual Basic®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7640" y="1911240"/>
            <a:ext cx="7305480" cy="749520"/>
          </a:xfrm>
          <a:prstGeom prst="rect">
            <a:avLst/>
          </a:prstGeom>
          <a:gradFill rotWithShape="0">
            <a:gsLst>
              <a:gs pos="0">
                <a:srgbClr val="b14600"/>
              </a:gs>
              <a:gs pos="5000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ual Basic, Scripting Edition, JScript, Tck/Tk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6600" y="1208160"/>
            <a:ext cx="6670800" cy="560160"/>
          </a:xfrm>
          <a:prstGeom prst="rect">
            <a:avLst/>
          </a:prstGeom>
          <a:gradFill rotWithShape="0">
            <a:gsLst>
              <a:gs pos="0">
                <a:srgbClr val="595900"/>
              </a:gs>
              <a:gs pos="50000">
                <a:srgbClr val="808000"/>
              </a:gs>
              <a:gs pos="100000">
                <a:srgbClr val="595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s, Documents, and Applications/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" y="502920"/>
            <a:ext cx="89870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 (COM) </a:t>
            </a:r>
            <a:br>
              <a:rPr sz="4000"/>
            </a:br>
            <a:r>
              <a:rPr b="0" i="1" lang="en-US" sz="3200" spc="-1" strike="noStrike">
                <a:solidFill>
                  <a:srgbClr val="808000"/>
                </a:solidFill>
                <a:latin typeface="Arial Black"/>
              </a:rPr>
              <a:t>Foundation for ActiveX com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7920" y="1812600"/>
            <a:ext cx="85881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able, programm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htweight, 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and tool-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oday’s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components are COM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COM extends interactions between components acros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980040" y="2063880"/>
            <a:ext cx="1990800" cy="2425680"/>
            <a:chOff x="6980040" y="2063880"/>
            <a:chExt cx="1990800" cy="2425680"/>
          </a:xfrm>
        </p:grpSpPr>
        <p:sp>
          <p:nvSpPr>
            <p:cNvPr id="170" name=""/>
            <p:cNvSpPr/>
            <p:nvPr/>
          </p:nvSpPr>
          <p:spPr>
            <a:xfrm>
              <a:off x="7086600" y="2673360"/>
              <a:ext cx="1884240" cy="1816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53b9c"/>
                </a:gs>
                <a:gs pos="5000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9644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26600" y="206388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0040" y="2117880"/>
              <a:ext cx="164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Unkn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harlie Kindel</dc:creator>
  <dc:description> This presentation was given by Charlie Kindel at Object World East '97.</dc:description>
  <cp:keywords>COM ActiveX OLE DCOM Objects Components IE Internet Explorer</cp:keywords>
  <dc:language>en-US</dc:language>
  <cp:lastModifiedBy>Michael Gross</cp:lastModifiedBy>
  <cp:lastPrinted>1997-03-05T18:32:21Z</cp:lastPrinted>
  <dcterms:modified xsi:type="dcterms:W3CDTF">1997-08-01T05:06:00Z</dcterms:modified>
  <cp:revision>112</cp:revision>
  <dc:subject>ActiveX and COM</dc:subject>
  <dc:title>ActiveX and The Web</dc:title>
</cp:coreProperties>
</file>