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C6EBA-6675-4241-92F3-BEC72E866E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processus discute avec un copie de lui même. Le fils continue à exécuter le script au lieu d’essayer d’exécuter un autre commande.|- la fin du pipe est rattaché au STDIN du f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on attache le pipe au STDOUT( c’est à dire que l’on lira sur le handle de fichier ce qu’ecrit le fil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ilisation du module standard de la bibliothèque IPC::Open2. Cette fonction attache un pipe a STDIN et un pipe autre à STDOUT d’un sous-process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ème qui se pose tient au système de tampons d’UNIX, car si on envoie u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met de mettre en place un pipe entre deux processus qui n’ont pas de lien entre e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créer un pipe nommé, on utilise un la commande mknod ou mkfifo.</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Correspond au mode d’ouverture dew</a:t>
            </a:r>
            <a:endParaRPr b="0" lang="en-US" sz="12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correspond a 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ment de mémoire partagé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 sémapho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va utiliser le module IPC:SysV de CPAN, on aurait pu utiliser les commande C.</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aviger ds des fichiers scruter de grande quantité de tex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ter Process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éré par un mécanisme de sign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fonction open de perl ouvre un pipe au lieu d’un fichier quand on rajoute un symbole de pipe avant ou après le second argument de open. Le reste est transformé en commande, qui est interprétée comme un processus(ou un ensemble de processus) pour transférer un flux de données vers l’extérieur ou l’intérieu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A3D3C-B4B1-4770-87A6-1FEEF7E40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547CA-2A12-4530-870C-B17211C4F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5BB03-DF3E-4276-838E-3BFAB0E66B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1B82C-6C0B-4DD8-9AC4-1774B7214E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8DDDD-06BC-4CA7-B37A-BCE02FD29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29DA4-2C4E-434B-BDFD-FBFF41CB1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6D7F4-4C1D-4436-B986-0D2334D8D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35442-04E7-405A-8356-425A4B4B2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E122A-2AEB-4353-978F-DF31CA009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0C671-2B34-476E-9B5C-A8D8DE8D6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8FE75-2375-4DE0-B683-70EECC7A3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EF7DD-A296-4490-B89A-B6BE04FA5E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15114-14E4-40F8-8E29-41D361C292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PC sous PERL</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
          <p:cNvSpPr/>
          <p:nvPr/>
        </p:nvSpPr>
        <p:spPr>
          <a:xfrm>
            <a:off x="1447920" y="3657600"/>
            <a:ext cx="6400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ent implémenter des mécanismes de communication inter-processus</a:t>
            </a:r>
            <a:endParaRPr b="0" lang="en-US" sz="2400" spc="-1" strike="noStrike">
              <a:solidFill>
                <a:srgbClr val="000000"/>
              </a:solidFill>
              <a:latin typeface="Times New Roman"/>
            </a:endParaRPr>
          </a:p>
        </p:txBody>
      </p:sp>
      <p:pic>
        <p:nvPicPr>
          <p:cNvPr id="51" name="logo2000" descr=""/>
          <p:cNvPicPr/>
          <p:nvPr/>
        </p:nvPicPr>
        <p:blipFill>
          <a:blip r:embed="rId1"/>
          <a:stretch/>
        </p:blipFill>
        <p:spPr>
          <a:xfrm>
            <a:off x="7848720" y="304920"/>
            <a:ext cx="952560" cy="952560"/>
          </a:xfrm>
          <a:prstGeom prst="rect">
            <a:avLst/>
          </a:prstGeom>
          <a:ln w="0">
            <a:noFill/>
          </a:ln>
        </p:spPr>
      </p:pic>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Ex : pipe non-nommé</a:t>
            </a:r>
            <a:endParaRPr b="0" lang="en-US" sz="4400" spc="-1" strike="noStrike">
              <a:solidFill>
                <a:srgbClr val="000000"/>
              </a:solidFill>
              <a:latin typeface="Times New Roman"/>
            </a:endParaRPr>
          </a:p>
        </p:txBody>
      </p:sp>
      <p:sp>
        <p:nvSpPr>
          <p:cNvPr id="69" name=""/>
          <p:cNvSpPr/>
          <p:nvPr/>
        </p:nvSpPr>
        <p:spPr>
          <a:xfrm>
            <a:off x="4419720" y="3429000"/>
            <a:ext cx="1295280" cy="457200"/>
          </a:xfrm>
          <a:prstGeom prst="borderCallout1">
            <a:avLst>
              <a:gd name="adj1" fmla="val 18750"/>
              <a:gd name="adj2" fmla="val -8333"/>
              <a:gd name="adj3" fmla="val -41666"/>
              <a:gd name="adj4" fmla="val -61152"/>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NO</a:t>
            </a:r>
            <a:endParaRPr b="0" lang="en-US" sz="2400" spc="-1" strike="noStrike">
              <a:solidFill>
                <a:srgbClr val="000000"/>
              </a:solidFill>
              <a:latin typeface="Times New Roman"/>
            </a:endParaRPr>
          </a:p>
        </p:txBody>
      </p:sp>
      <p:sp>
        <p:nvSpPr>
          <p:cNvPr id="70" name=""/>
          <p:cNvSpPr/>
          <p:nvPr/>
        </p:nvSpPr>
        <p:spPr>
          <a:xfrm>
            <a:off x="609480" y="1752480"/>
            <a:ext cx="8077320" cy="4419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r/bin/perl</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pen STATUS, "netstat -an  |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or die "fork impossible :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le(&lt;STATUS&g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next unless /(tcp|udp)/;</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prin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ose STATUS or die "mauvais spool : $!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AURENCOT Stéphane - IR99</a:t>
            </a:r>
          </a:p>
        </p:txBody>
      </p:sp>
      <p:sp>
        <p:nvSpPr>
          <p:cNvPr id="4" name="PlaceHolder 3"/>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Le programme communique avec lui-même!</a:t>
            </a:r>
            <a:endParaRPr b="0" lang="en-US" sz="4400" spc="-1" strike="noStrike">
              <a:solidFill>
                <a:srgbClr val="000000"/>
              </a:solidFill>
              <a:latin typeface="Times New Roman"/>
            </a:endParaRPr>
          </a:p>
        </p:txBody>
      </p:sp>
      <p:sp>
        <p:nvSpPr>
          <p:cNvPr id="72" name=""/>
          <p:cNvSpPr/>
          <p:nvPr/>
        </p:nvSpPr>
        <p:spPr>
          <a:xfrm>
            <a:off x="609480" y="1905120"/>
            <a:ext cx="807732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id = open( KID_TO_WRITE , "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f($pid){</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per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int KID_TO_WRITE "des_donne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ose (KID_TO_WRITE) or warn "fils sorti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lse{</a:t>
            </a:r>
            <a:r>
              <a:rPr b="0" lang="en-US" sz="2400" spc="-1" strike="noStrike">
                <a:solidFill>
                  <a:srgbClr val="000000"/>
                </a:solidFill>
                <a:latin typeface="Arial Narrow"/>
              </a:rPr>
              <a:t>	</a:t>
            </a:r>
            <a:r>
              <a:rPr b="0" lang="en-US" sz="2400" spc="-1" strike="noStrike">
                <a:solidFill>
                  <a:srgbClr val="000000"/>
                </a:solidFill>
                <a:latin typeface="Arial Narrow"/>
              </a:rPr>
              <a:t>#fils</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pen (file, "&gt;file") or die "open impossible :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le(&lt;STDIN&g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print file; #STDIN du fils = KID_TO_WRIT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AURENCOT Stéphane - IR99</a:t>
            </a:r>
          </a:p>
        </p:txBody>
      </p:sp>
      <p:sp>
        <p:nvSpPr>
          <p:cNvPr id="4" name="PlaceHolder 3"/>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Communication bidirectionnelle</a:t>
            </a: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Ex : communication bidirectionnelle</a:t>
            </a:r>
            <a:endParaRPr b="0" lang="en-US" sz="4400" spc="-1" strike="noStrike">
              <a:solidFill>
                <a:srgbClr val="000000"/>
              </a:solidFill>
              <a:latin typeface="Times New Roman"/>
            </a:endParaRPr>
          </a:p>
        </p:txBody>
      </p:sp>
      <p:sp>
        <p:nvSpPr>
          <p:cNvPr id="76" name=""/>
          <p:cNvSpPr/>
          <p:nvPr/>
        </p:nvSpPr>
        <p:spPr>
          <a:xfrm>
            <a:off x="609480" y="1905120"/>
            <a:ext cx="807732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sr/bin/perl</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FileHandl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IPC::Open2;</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id = open2(\*Lecteur, \*Auteur, "cat -u -n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int Auteur "truc\n";</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ot = &lt;Lecteur&g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int $go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AURENCOT Stéphane - IR99</a:t>
            </a:r>
          </a:p>
        </p:txBody>
      </p:sp>
      <p:sp>
        <p:nvSpPr>
          <p:cNvPr id="4" name="PlaceHolder 3"/>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ipes nommés</a:t>
            </a:r>
            <a:endParaRPr b="0" lang="en-US" sz="4400" spc="-1" strike="noStrike">
              <a:solidFill>
                <a:srgbClr val="000000"/>
              </a:solidFill>
              <a:latin typeface="Times New Roman"/>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ipes nommés</a:t>
            </a:r>
            <a:endParaRPr b="0" lang="en-US" sz="4400" spc="-1" strike="noStrike">
              <a:solidFill>
                <a:srgbClr val="000000"/>
              </a:solidFill>
              <a:latin typeface="Times New Roman"/>
            </a:endParaRPr>
          </a:p>
        </p:txBody>
      </p:sp>
      <p:sp>
        <p:nvSpPr>
          <p:cNvPr id="80" name=""/>
          <p:cNvSpPr/>
          <p:nvPr/>
        </p:nvSpPr>
        <p:spPr>
          <a:xfrm>
            <a:off x="609480" y="1905120"/>
            <a:ext cx="807732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FO = '.signatur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nless (-p $FIFO)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system('mknod',$FIFO, 'p') &amp;&amp; die "mknod $FIFO impossible :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a ligne suivante bloque jusqu'à ce qu'il y ait un lecteur</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pen (FIFO,"&gt;$FIFO") or die "write $FIFO impossible :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int FIFO "Marcelo (Marcelo@host.fr)\n";</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ose FIFO;</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leep 1;</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AURENCOT Stéphane - IR99</a:t>
            </a:r>
          </a:p>
        </p:txBody>
      </p:sp>
      <p:sp>
        <p:nvSpPr>
          <p:cNvPr id="4" name="PlaceHolder 3"/>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Utilisation des IPC’s SystemV avec PERL </a:t>
            </a:r>
            <a:endParaRPr b="0" lang="en-US" sz="4400" spc="-1" strike="noStrike">
              <a:solidFill>
                <a:srgbClr val="000000"/>
              </a:solidFill>
              <a:latin typeface="Times New Roman"/>
            </a:endParaRPr>
          </a:p>
        </p:txBody>
      </p:sp>
      <p:sp>
        <p:nvSpPr>
          <p:cNvPr id="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Ex:segment de mémoire partagée</a:t>
            </a:r>
            <a:endParaRPr b="0" lang="en-US" sz="4400" spc="-1" strike="noStrike">
              <a:solidFill>
                <a:srgbClr val="000000"/>
              </a:solidFill>
              <a:latin typeface="Times New Roman"/>
            </a:endParaRPr>
          </a:p>
        </p:txBody>
      </p:sp>
      <p:sp>
        <p:nvSpPr>
          <p:cNvPr id="84" name=""/>
          <p:cNvSpPr/>
          <p:nvPr/>
        </p:nvSpPr>
        <p:spPr>
          <a:xfrm>
            <a:off x="609480" y="1905120"/>
            <a:ext cx="807732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PC_PRIVATE = 0;</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PC_RMID = 0;</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ille = 2000;</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ef = shmget ($IPC_PRIVATE, $taille,0777);</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e unless defined $clef;</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essage = "Message #1";</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mwrite($clef, $message, 0,60) or die "shwrit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mread($clef,$buff,0,60) or die "shmread: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int $buff,"\n";</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int "suppression de $clef\n";</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mctl($clef, $IPC_RMID,0) or die "shmctl: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AURENCOT Stéphane - IR99</a:t>
            </a:r>
          </a:p>
        </p:txBody>
      </p:sp>
      <p:sp>
        <p:nvSpPr>
          <p:cNvPr id="4" name="PlaceHolder 3"/>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émaphore  </a:t>
            </a:r>
            <a:endParaRPr b="0" lang="en-US" sz="4400" spc="-1" strike="noStrike">
              <a:solidFill>
                <a:srgbClr val="000000"/>
              </a:solidFill>
              <a:latin typeface="Times New Roman"/>
            </a:endParaRPr>
          </a:p>
        </p:txBody>
      </p:sp>
      <p:sp>
        <p:nvSpPr>
          <p:cNvPr id="86" name=""/>
          <p:cNvSpPr/>
          <p:nvPr/>
        </p:nvSpPr>
        <p:spPr>
          <a:xfrm>
            <a:off x="609480" y="1905120"/>
            <a:ext cx="807732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IPC::SysV qw( S_IRWXU IPC_CREA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IPC::Semaphor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m = new IPC::Semaphore(245, 1, S_IRWXU | IPC_CREA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m-&gt;setall( 1);</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endre la semaphor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tendre qu'il passe a 0</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m-&gt;op(0,0,IPC_NOWAIT);</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AURENCOT Stéphane - IR99</a:t>
            </a:r>
          </a:p>
        </p:txBody>
      </p:sp>
      <p:sp>
        <p:nvSpPr>
          <p:cNvPr id="4" name="PlaceHolder 3"/>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87" name=""/>
          <p:cNvSpPr/>
          <p:nvPr/>
        </p:nvSpPr>
        <p:spPr>
          <a:xfrm>
            <a:off x="609480" y="1905120"/>
            <a:ext cx="807732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IPC::SysV qw(IPC_PRIVATE S_IRWXU IPC_CREA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IPC::Semaphor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m = new IPC::Semaphore(245, 1, S_IRWXU | IPC_CREA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m-&gt;op(0,-1,IPC_NOWAI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m-&gt;remov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 processus précédent s’arrête</a:t>
            </a:r>
            <a:endParaRPr b="0" lang="en-US" sz="2400" spc="-1" strike="noStrike">
              <a:solidFill>
                <a:srgbClr val="000000"/>
              </a:solidFill>
              <a:latin typeface="Times New Roman"/>
            </a:endParaRPr>
          </a:p>
        </p:txBody>
      </p:sp>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émaphore suite</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LAURENCOT Stéphane - IR99</a:t>
            </a:r>
          </a:p>
        </p:txBody>
      </p:sp>
      <p:sp>
        <p:nvSpPr>
          <p:cNvPr id="4" name="PlaceHolder 3"/>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LAN</a:t>
            </a:r>
            <a:endParaRPr b="0" lang="en-US" sz="4400" spc="-1" strike="noStrike">
              <a:solidFill>
                <a:srgbClr val="000000"/>
              </a:solidFill>
              <a:latin typeface="Times New Roman"/>
            </a:endParaRPr>
          </a:p>
        </p:txBody>
      </p:sp>
      <p:sp>
        <p:nvSpPr>
          <p:cNvPr id="53"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marL="812880" indent="-812880">
              <a:spcBef>
                <a:spcPts val="799"/>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ésentation succincte de PERL</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gt; simplification de programmation</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gt;ce que l’on peut faire avec PERL</a:t>
            </a:r>
            <a:endParaRPr b="0" lang="en-US" sz="3200" spc="-1" strike="noStrike">
              <a:solidFill>
                <a:srgbClr val="000000"/>
              </a:solidFill>
              <a:latin typeface="Times New Roman"/>
            </a:endParaRPr>
          </a:p>
          <a:p>
            <a:pPr marL="812880" indent="-812880">
              <a:spcBef>
                <a:spcPts val="799"/>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 IPC’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gt; les signaux</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gt; les pipe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gt; les IPC’s system V</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gage très puissant</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manipulation des IPC’s est simplifié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us de descripteur à gérer</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gage à essayer absolumen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ERL</a:t>
            </a:r>
            <a:br>
              <a:rPr sz="4400"/>
            </a:br>
            <a:r>
              <a:rPr b="0" lang="en-US" sz="4400" spc="-1" strike="noStrike" u="sng">
                <a:solidFill>
                  <a:srgbClr val="000000"/>
                </a:solidFill>
                <a:uFillTx/>
                <a:latin typeface="Times New Roman"/>
              </a:rPr>
              <a:t>Simplification de programmation </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manipulation des types est simplifié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ile de lancer des programmes exter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ile d’envoyer des données vers un autre program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gage très portable (UNIX,OS/2,W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mer en C de façon portabl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mer des shell de façon portabl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Ce que l’on peut faire avec PERL</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ipulation de systèmes de fichi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érer de process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ministration de BD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ation de client-serveu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ation sécurisé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érer des informations basées sur le WEB</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ation orientée objet et fonctionnell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PC</a:t>
            </a:r>
            <a:endParaRPr b="0" lang="en-US" sz="4400" spc="-1" strike="noStrike">
              <a:solidFill>
                <a:srgbClr val="000000"/>
              </a:solidFill>
              <a:latin typeface="Times New Roman"/>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Inter Process Communicatio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Les signaux</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gestion des signaux est représentée par une table de hachage %SI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enant des références sur des gestionnai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 signal =&gt; gestionnaire correspondan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Déclaration d’un gestionnaire</a:t>
            </a:r>
            <a:endParaRPr b="0" lang="en-US" sz="4400" spc="-1" strike="noStrike">
              <a:solidFill>
                <a:srgbClr val="000000"/>
              </a:solidFill>
              <a:latin typeface="Times New Roman"/>
            </a:endParaRPr>
          </a:p>
        </p:txBody>
      </p:sp>
      <p:sp>
        <p:nvSpPr>
          <p:cNvPr id="63" name=""/>
          <p:cNvSpPr/>
          <p:nvPr/>
        </p:nvSpPr>
        <p:spPr>
          <a:xfrm>
            <a:off x="533520" y="1752480"/>
            <a:ext cx="8076960" cy="4419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r/bin/perl</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éclaration d’un gestionnair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b attrape{ #déclare un sous-programm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y $nomsig = shif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e "Quelqu'un m'a envoyé un SIG $nomsig!";</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G{INT} = \&amp;attrap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nless(kill 2 =&gt; $kid_pid){warn "il s'est passe qq chos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AURENCOT Stéphane - IR99</a:t>
            </a:r>
          </a:p>
        </p:txBody>
      </p:sp>
      <p:sp>
        <p:nvSpPr>
          <p:cNvPr id="4" name="PlaceHolder 3"/>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ipes</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al E/S qui peut transférer un flux d’octets d’un processus vers un aut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pe non-nommé (utilisation de 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tilisation d’un pipe pour que le programme communique avec lui-mê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cation bidirectionnel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pe nommé</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ipe non-nommé</a:t>
            </a:r>
            <a:endParaRPr b="0" lang="en-US" sz="4400" spc="-1" strike="noStrike">
              <a:solidFill>
                <a:srgbClr val="000000"/>
              </a:solidFill>
              <a:latin typeface="Times New Roman"/>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pen</a:t>
            </a:r>
            <a:r>
              <a:rPr b="0" lang="en-US" sz="3200" spc="-1" strike="noStrike">
                <a:solidFill>
                  <a:srgbClr val="000000"/>
                </a:solidFill>
                <a:latin typeface="Times New Roman"/>
              </a:rPr>
              <a:t> de perl ouvre un pipe au lieu d’un fichier quand on rajoute un symbole de pipe avant ou après le second argumen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1T16:48:42Z</dcterms:created>
  <dc:creator>utilisateur</dc:creator>
  <dc:description/>
  <dc:language>en-US</dc:language>
  <cp:lastModifiedBy>Laurençot Stéphane</cp:lastModifiedBy>
  <dcterms:modified xsi:type="dcterms:W3CDTF">2001-11-22T21:30:56Z</dcterms:modified>
  <cp:revision>13</cp:revision>
  <dc:subject/>
  <dc:title>IPC sous PERL</dc:title>
</cp:coreProperties>
</file>