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DB5-E725-45F0-B8FF-6E191FEA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899-5B66-4B4F-B633-23F3F383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63E-D9D6-496E-BA97-AEF2A8D1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52B9-A49A-44DF-B6EE-3A696ECC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63C-5111-4569-8481-38AAB384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C99-563A-4ACA-AA01-77A58D79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E300-6921-4682-B2C9-833E61C9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943E-1C4A-47B1-B274-6039F77F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712-C4C7-4D65-89F5-D91BA97A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938-4CAE-4B1B-BDB0-9C3E63AE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A93-8563-4BC7-9EE9-90711CB3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5C28-6E9B-414A-96E8-0EAAC77E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A1A3-4C59-4EFF-9FCA-A4568224D07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programmation générique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vec la S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16000" y="6308640"/>
            <a:ext cx="41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IUMLV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 Informatique et Réseaux 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920" y="631332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enoît RO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petits exemples (2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include &lt;lis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include&lt;algorith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char&gt; initC(char*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char&gt; maj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hile (*c != ‘\0’= majax.push_back(*c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turn maj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main(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char&gt; gerard = initC("le plus grand et le plus fort des magiciens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erard.so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erard.uniqu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 (List&lt;char&gt;::iterator i = gerard.begin() ; i != gerard.end() ; i++) cout &lt;&lt; *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Autre notion : l’adaptateur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eur de 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résume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eur &lt; Conteneur &lt; Truc &gt;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ck ( la pil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ut être implémentée avec Vector, List, De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ncipe LIFO : push et pop à la même extrém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eue ( la fil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ut être implémentée avec List, De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ncipe FI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ority_queue ( la file par priorité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pend d’une fonction de comparai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ority_queue&lt; Conteneur &lt; Truc &gt; , fcomp &lt; Truc &gt;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Autre notion : l’adaptateur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3499920"/>
            <a:ext cx="8229600" cy="244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 arr[] = {1,4,9,16,25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int&gt; liste(arr, arr+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int&gt;::reverse_iterator rev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vit = liste.rbegin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hile (revit != liste.rend()) cout &lt;&lt; *revi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700280"/>
            <a:ext cx="772488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ateurs d’itér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itérateur in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Autre notion : l’adaptateur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3499920"/>
            <a:ext cx="8229600" cy="280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 t1[] = { 1, 3, 5, 7, 9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que&lt;int&gt; dq1(t1,t1+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t t2[] = { 2, 4, 6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que&lt;int&gt; dq2(t2,t2+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py(dq1.begin(), dq1.end(), back_inserter(dq2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 (int i=0 ; i&lt;dq2.size() ; i++) cout &lt;&lt; dq2[i] &lt;&lt; ‘ ‘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700280"/>
            <a:ext cx="772488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itérateur d’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pour finir : les fonc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bstraction de la notion de fo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ncteur = Objet dont la classe définit l’opérateur () , appelé opérateur de fo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rmettent d’appliquer des fonctions sur les objets manipu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068640"/>
            <a:ext cx="8229600" cy="360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include &lt;functiona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mplate &lt;class T, class F&gt; T applique(T i, T j, F foncteu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turn foncteur(i, 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main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us&lt;int&gt; foncteur_plu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ut &lt;&lt; applique(2, 3, foncteur_plus) &lt;&lt; end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suite sur le site Web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rlons voir de Ook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: le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concep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généricité ne s’appliquent pas seulement au c++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 : on a le droit de les appliq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 : le joli schéma de Stepanov peut être généralisé : on sait à quoi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ressemb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l’objet avec lequel on veut discuter et ce qu’il doit faire, mais on ne sait pas comment il fait ce qu’il fait ( et on plus ce n’est pas notre problèm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gros, si l’objet cible change, on lui demande simplement de garder l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même appare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Comme ça, on n’a pas besoin de recommencer tout notr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4 : c’est très chiant au début, mais ça facilite la vie ap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e dont on va par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concepts de généricité : re-encore à nouveau un autre rappel, mais ça finira par rentr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Standard Templat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vec les concepts, des exemples, et tout ce qui va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fin:les trucs qu’il faut comprendre ( ou en tout cas retenir ) pour l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grammation générique: les moti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principale: la fle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réutilisation du code ( cf. premier poin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facilité d’écri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lisibilité du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schéma, par Stepanov et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794120"/>
            <a:ext cx="8229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algorithmes sont indépendants du type de données stock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l s’agit ainsi de connecter des algorithmes à des structures de données, par le biais de connecteu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547640" y="2133720"/>
            <a:ext cx="6407280" cy="2016000"/>
            <a:chOff x="1547640" y="2133720"/>
            <a:chExt cx="6407280" cy="2016000"/>
          </a:xfrm>
        </p:grpSpPr>
        <p:sp>
          <p:nvSpPr>
            <p:cNvPr id="51" name=""/>
            <p:cNvSpPr/>
            <p:nvPr/>
          </p:nvSpPr>
          <p:spPr>
            <a:xfrm>
              <a:off x="1547640" y="2133720"/>
              <a:ext cx="1871640" cy="2016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lgorith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83280" y="2133720"/>
              <a:ext cx="1871640" cy="2016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ntain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419280" y="3141360"/>
              <a:ext cx="2664000" cy="0"/>
            </a:xfrm>
            <a:prstGeom prst="line">
              <a:avLst/>
            </a:prstGeom>
            <a:ln w="1144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41800" y="270972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téra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ST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lication directe des concepts développés par Stepa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s’agit d’une bibliothèque d’algorithmes généraux et de structures de donn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contai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e sé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ssociat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algorith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sort, find, search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copy, swap, for_each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itér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daptés aux types de 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- Les containers de sé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extensible et relocali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ccès aléatoire par index en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ertions et retraits à la fin en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insertions et retraits lents au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st ( liste circulaire doublement chaîné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insertions et retraits n’importe où en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ccès au début et à la fin en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ccès lent aux autres élé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que ( Double Ended Queue = tampon circulaire dynamiqu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exactement pareil que Vector pour la complex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pas d’insertion au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bon compromis vitesse d’accès / souplesse du rempli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- Les containers associ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t ( liste trié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Chaque élément doit être unique ( pas de doublon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ccès aléatoire par clé ( l’objet lui-même est la clé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ulti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Un ‘set’ qui permet les doubl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p ( association clé / élémen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une clé pour un élément ( pas de doublon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accès aléatoire par cl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uli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Un ‘map’ ou les éléments peuvent être multiples pour une c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Les itér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'itérateur est une généralisation des pointeurs.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permet de parcourir en séquence les éléments d'un conten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iérarchie des itérateu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924280"/>
            <a:ext cx="180036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cr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2924280"/>
            <a:ext cx="180036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860640"/>
            <a:ext cx="1800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797360"/>
            <a:ext cx="1800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direct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5734080"/>
            <a:ext cx="1800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è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é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140360" y="53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140360" y="44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484000" y="414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484360" y="3500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724360" y="3500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58770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+n, It-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000" y="49417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++, It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48720" y="41497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L – petits exemples (1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c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78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id main(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ist&lt;int&gt; l(4,0)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// l vaut 0::0::0::0::[]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ector&lt;int&gt; v(10,1)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// v vaut [1,1,1,1,1,1,1,1,1,1,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ector&lt;int&gt;::iterator i = copy(l.begin(),l.end(),v.begin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py(v.begin(),i, ostream_iterator&lt;int&gt;(cout," "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py(i,v.end(), ostream_iterator&lt;int&gt;(cout," "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4:06:20Z</dcterms:created>
  <dc:creator>POPI</dc:creator>
  <dc:description/>
  <dc:language>en-US</dc:language>
  <cp:lastModifiedBy>POPI</cp:lastModifiedBy>
  <dcterms:modified xsi:type="dcterms:W3CDTF">2002-02-07T15:13:13Z</dcterms:modified>
  <cp:revision>26</cp:revision>
  <dc:subject/>
  <dc:title>La programmation génériqu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