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58E-8027-4683-894B-CC54FD26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D89-63CF-4FA1-AE76-7E366314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D19-B023-45AB-B25D-FC0AF4F4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76B-F919-4864-922F-C1FD17F4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E08-CA45-438C-A3FF-85734B4E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C5E-652F-414E-AF2F-3558B0A2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AFF-B4DE-4C99-8E0F-5B453D69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9D4-6F31-453F-B751-773F3811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9EA-AA50-4710-8FC4-74380950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AED-DFEE-4864-85B2-2C393F2F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A43-A2A4-4E18-9AB3-1DA7913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4D4-8B05-4245-8FEE-6497E6B1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C227-F696-4E42-9A22-1F53B81F0F4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42552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Times New Roman"/>
              </a:rPr>
              <a:t>Renaud Vayss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6248520"/>
            <a:ext cx="21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9 novembr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1800" y="2362320"/>
            <a:ext cx="59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FAI Ingénieur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20" y="624852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ière Informatique &amp; Rés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_ac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20000" y="624852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ème année – Group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ngouin3" descr=""/>
          <p:cNvPicPr/>
          <p:nvPr/>
        </p:nvPicPr>
        <p:blipFill>
          <a:blip r:embed="rId2"/>
          <a:stretch/>
        </p:blipFill>
        <p:spPr>
          <a:xfrm>
            <a:off x="3195720" y="3276720"/>
            <a:ext cx="275112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logo-umlv" descr=""/>
          <p:cNvPicPr/>
          <p:nvPr/>
        </p:nvPicPr>
        <p:blipFill>
          <a:blip r:embed="rId3"/>
          <a:stretch/>
        </p:blipFill>
        <p:spPr>
          <a:xfrm>
            <a:off x="7023240" y="285840"/>
            <a:ext cx="1496880" cy="79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127944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iversité de Marne-La-Val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9760" y="106200"/>
            <a:ext cx="729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ARCHITECTURE RECOMMAND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3880"/>
            <a:ext cx="78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Un matériel homogène dans une topologie « saine »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5146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Stations de travail homogènes (même architecture, mêmes composant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liaisons 100 Mb/s interconnectées par des switchs (suivant vos moyens bien entendu 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ner et séparer les applications soit par tranche horaire soit par sous réseaux (par l’intermédiaire d’une passer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9FE-F9D3-4BB8-91B2-DA6E0BFE28D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3360" y="42552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a question Logici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600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distribution commune à l’ensemble des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API (Application Program Interface) dédier à rendre le calcul collectif (PVM, MPI, BS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95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EN CHOISIR LE PROJET QUE VOUS UTILISEREZ EN FONCTION DE VOS AT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816-FDC9-449D-B767-CA07969EB15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1920" y="106200"/>
            <a:ext cx="883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 PROJETS DE CLUSTERS SOUS LINUX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5160" y="1295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VS (Linux Virtual Serv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ix, Resonate Dispatch serie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le fonctionnement d’applications réseaux sur un système supportant un plus grand nombre d’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ir l’exposé de Fred   ;0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 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lvs.fred-shwien.qqp, http://www.linuxvirtualserver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A58-8C63-44BE-8D4C-7C99659D776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00" y="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Beowulf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9960" y="18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" y="838080"/>
            <a:ext cx="8474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luster le plus connu du monde Linux, (parrainé par la NASA depuis 199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scientifiques (tous comm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sica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 les plus populaires APIs pour Linux (PVM et MP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jet le plus documenté et le plus vastement répan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d’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eme Lin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érivé de Beowulf, la première distribution de Linux en cl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 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www.beowulf.org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beowulf-underground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310-2D96-4444-9F1C-85B7F591BD5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00" y="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VFS (Parallel Virtual File Syste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" y="685800"/>
            <a:ext cx="8474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é par le laboratoire de recherche de l’université de Clemson, soutenu par la 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dits de « stockages combinés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travailler avec des fichiers de très grandes tailles tout en minimisant les transfe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une API native libpvfs et fonctionne sous Linux depuis le noyau 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conjointement à PVFS, ReiserFS, ext2fs ou même un dispositif RA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parlweb.parl.clemson.edu/pvfs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640-E4D9-430E-8B0A-8D6FA4B52F1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1120" y="1666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inux-HA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" y="914400"/>
            <a:ext cx="847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s à hautes disponibilité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maintenir un heartbeat entre les nodes d’un serv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à un node de prendre l’identité réseau d’un node défectu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http://linux-h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572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tout n’est pas de monter le cluster !!!! Il faut aussi l’administrer ! Pour cela penser à ALINKA (Raisin ou Orange suivant votre cluster)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www.alinka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9E8-2AEA-4169-B83B-22C5F130377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95360" y="2178000"/>
            <a:ext cx="638352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MOSIX: LE CLUSTER DE T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Futura XBlkIt BT"/>
                <a:ea typeface="Times New Roman"/>
              </a:rPr>
              <a:t>(http://www.mosix.org)</a:t>
            </a:r>
            <a:r>
              <a:rPr b="0" lang="fr-FR" sz="2400" spc="-1" strike="noStrike">
                <a:solidFill>
                  <a:srgbClr val="000099"/>
                </a:solidFill>
                <a:latin typeface="Futura XBlkIt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40F-F036-42B2-8228-559364143D8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75360" y="106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WHAT IS MOSIX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440" y="1447920"/>
            <a:ext cx="62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 entre proces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133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et enrichissement du noyau Linux (patchs + quelques binaires) afin de supporter le clust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760" y="3124080"/>
            <a:ext cx="81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Nodes est équivalent et tourne sous un noyau MOS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000" y="380988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algorithme dit de « fork and forget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360" y="4495680"/>
            <a:ext cx="54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ation constante de la répar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1680" y="5181480"/>
            <a:ext cx="43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ès simple à mettre en œuv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BC4-1AB6-488E-83A8-A0C000E2EBA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34280" y="106200"/>
            <a:ext cx="706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INSTALLER UN CLUSTE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360" y="9907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Instal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5240" y="316548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7652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écharger et « détarrer » la version de MOSIX, suivant la version de votre noyau à l’adresse : 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://www.mosix.org/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1.5.2 for Linux 2.4.13 [407K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0.98.0 for Linux 2.2.19 [700KB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avoir d’autre format d’installation pour d’autre distribution (Debian, Slackware, RPM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son type d’installation : manuelle ou automat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des assistants de distribution, comme LTSP (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www.LTSP.or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ans une architecture homogè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7C4-E365-4EAB-8AA5-BE69CC8CE45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 de MOSIX vient modifier les fichiers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etd.conf and/or /etc/xinetd.d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lilo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rc.d/init.d/a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cron.daily/slocate.c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renomme les versions originales en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pre_mos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38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re le manuel d’installation pour les procédures communes ; il est très explicite   ;0) !!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" y="36576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4572000"/>
            <a:ext cx="66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Point fort de MOSIX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 script d’installation s’est chargé tout seul de la configuration du node du clu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4FA-37D9-4B57-A993-595E0809E12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14880" y="152280"/>
            <a:ext cx="251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07800" y="2082960"/>
            <a:ext cx="7076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tés sur les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nition, terminologi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07440" y="3378240"/>
            <a:ext cx="7899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ustering sous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s, projets, solu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3920" y="4597560"/>
            <a:ext cx="659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emple de clusters Linux : MO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, ges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B7F-52DD-4F14-98EA-810C937C65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760" y="289080"/>
            <a:ext cx="66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pologi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par l’intermédiaire du fichier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etc/mosix.ma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080" y="83808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ntax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SIX-node-numb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addres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-siz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080" y="1371600"/>
            <a:ext cx="4600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ichier /etc/mosix.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9760" y="3809880"/>
            <a:ext cx="35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e uti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n mosi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’OUBLIEZ PAS DE CONFIGURER L’ACTIVATION / DESACTIVATION DE MOSIX AU SEIN DU SYSTEME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767-F907-41B3-8113-8CC9813FA2A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60" y="16668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Adminis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144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 et configuration du cluster grâce aux entrées ajoutées dans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c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s de collecter des informations relatives aux échanges  mais aussi aux proces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r les applications d’administration comm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e, m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cela facilite drôlement la vie 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e migrer manuellement les processus les plus récalcitra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 encore les besoins d’administration évolue en fonction de vos attentes donc 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mosi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11A-2DB0-49B0-92EF-8BC3210D529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3400" y="106200"/>
            <a:ext cx="639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COMMENTAIRES SU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extension jusqu’à 65535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ne sur des combinaisons de machines comme les workstation, les multiprocesseurs, les serveur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9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écialement conçu pour la famille des processeurs Intel-x86 et compati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librage de manière transpar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écute plus d’applications en instantan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95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de performance significatif qu’avec des processus bien distribu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gration de processus est une opération coûte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A88-1D19-4C8B-8BAB-DCC535E456A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3080" y="38088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IX S’AFFICHE TOUTEFOIS COMME UNE SOLUTION IDEALE DANS LE CADRE D’UN SERVEUR D’APPLICATION 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ÂCE A LUI CHAQUE UTILISATEUR CONNECTE A DISTANCE DISPOSERA DE PERFORMANCES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rd" descr=""/>
          <p:cNvPicPr/>
          <p:nvPr/>
        </p:nvPicPr>
        <p:blipFill>
          <a:blip r:embed="rId2"/>
          <a:stretch/>
        </p:blipFill>
        <p:spPr>
          <a:xfrm>
            <a:off x="3103560" y="3352680"/>
            <a:ext cx="2935440" cy="29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674-F96D-4220-849E-829A96A01D1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24720" y="2178000"/>
            <a:ext cx="66913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GENERALITES SUR LES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8B2-3F7E-4CE8-8EF8-E9632D4AE50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6000" y="12636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luster est un ensemble d’ordinateurs connectés les uns aux autres en réseau dans le but de partager des ressou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rme clair, il s’agit d’une batterie d’ordinateurs, tous interconnectés et capables de traiter de concert un même tr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640" y="43117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istin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080" y="4952880"/>
            <a:ext cx="32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ème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8080" y="85680"/>
            <a:ext cx="655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QU’EST CE QU’UN CLUS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2D9-8871-4CDD-A6ED-8F148C3FDF6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93080" y="15228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038320"/>
          <a:ext cx="1524240" cy="354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38320"/>
                    <a:ext cx="15242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819840" y="3117960"/>
          <a:ext cx="194328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19840" y="3117960"/>
                    <a:ext cx="19432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646440" y="3478320"/>
          <a:ext cx="184932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6440" y="3478320"/>
                    <a:ext cx="1849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76520" y="29718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76520" y="3733920"/>
            <a:ext cx="23619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733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080" y="1828800"/>
            <a:ext cx="84582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5040" y="19018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8160" y="2894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6760" y="4494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560" y="57913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2600" y="33526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867-2DCF-4775-835E-6E4411E335C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9280" y="152280"/>
            <a:ext cx="7515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ES MOTIVATIONS D’UN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4320" y="1600200"/>
            <a:ext cx="697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scientif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déchiffrement des clés de cryptage de plus en plus longues, simulation nucléair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de stock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stockage d’énormes fichier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haute disponibili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firewall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serveur web, architecture système utilisateur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C02-173A-4A9B-ABA6-7BF32463D13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7040" y="152280"/>
            <a:ext cx="700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« CLUSTERING EVERYWHER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765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lusters « propriétaires » : architecture et prestation chè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BM, HP, SU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666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solutions commerciales de clustering : architecture peu chère mais prestation ch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CheckPoint, Epsilan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58128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lusters « bizarres »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l’impression que c’est pas chère mais a force de cumuler on se dit que le super calculateur aurait pu être bien en fin de comp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Windows 2000 datacenter serv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181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solutions de clustering Linux : c’est le chapitre suivant 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F64-0EC9-4A47-BA72-49EB84E829D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47360" y="2178000"/>
            <a:ext cx="58636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LE 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03D-40F4-4A71-A35A-853F2C086BB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18120" y="106200"/>
            <a:ext cx="610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OURQUOI CHOISI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6360" y="1219320"/>
            <a:ext cx="29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E PRIX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7240" y="1981080"/>
            <a:ext cx="670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 sur la plupart des distributions gratuites du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 simple PC pour les Nodes du clust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s logiciels sous licence GPL (PVM, MPI 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3760" y="3809880"/>
            <a:ext cx="72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’OUVERTURE « D’ESPRIT »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200" y="4572000"/>
            <a:ext cx="848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communauté Linuxienne prés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Open Source éprouvés et fiables (beowulf, Mosix, Legion, LVS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répondants aux attentes de tous les types de clu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59F-ACC3-47F8-A30C-B7958037BDD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3:25:32Z</dcterms:created>
  <dc:creator>Renaud Vayssade</dc:creator>
  <dc:description/>
  <dc:language>en-US</dc:language>
  <cp:lastModifiedBy>Renaud</cp:lastModifiedBy>
  <dcterms:modified xsi:type="dcterms:W3CDTF">2002-01-20T20:10:09Z</dcterms:modified>
  <cp:revision>33</cp:revision>
  <dc:subject>comment réaliser un cluster à moindre cout</dc:subject>
  <dc:title>Le clustering sous Linux</dc:title>
</cp:coreProperties>
</file>