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A9F-9B2E-4745-8ED5-D600BD8A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437-543B-4150-B8D7-C3A1650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2D1-33D2-456A-A1A9-1FFCEB69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DD2-1ADD-40A2-9549-0F69A1AC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A0D4-8168-4407-AD15-EF0F6F02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E9E2-BB0A-471B-B86D-E7F1393F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A83E-598A-4623-8CF4-FA0CF4F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10A-F742-4C44-8AF3-D441923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737-7726-4CD8-A8A6-EEB8939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638A-4DBB-4E1B-9344-C2B65334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0D0-2AEB-40CF-8820-A68EF52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BD9-3B02-4A89-8AC6-53F93984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3C3F-6E2F-4FA5-87E0-0E489A1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BB9-82C5-4EFC-968B-4D624B79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1E2-5C15-4D4D-B8EA-DAB2E02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2F4-E29B-4484-8DF3-64DAC06B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F7D-10BB-4CA0-84B4-419C5A9D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805-6CE4-4D42-A357-5220D700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438-5289-4267-B27A-4073D0FD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8A7-8296-45EA-B7AF-7C91985D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037-31AC-4874-BF91-83C692DA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746-0008-45A2-A6E8-54E9415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686-CA15-4D33-BABB-64EB826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F19-FE48-4586-88F1-DA88757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442-5137-4447-B2FC-B2091F8C297E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2C3-77BD-4980-9D2D-BD2160BE617C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Critiqu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54104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Identifica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systématique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 Risques de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ysfonctionnement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équipements (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MODES DE DEFAILLA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Recherch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origin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et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conséque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 ces dysfonctionnements ( 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CAUSES / EFFETS 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Mise en évidenc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points critiques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Proposi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 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’ actions correctiv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adaptées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 des consignes d ’exploitation , de nettoyage et de Maintenance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de la Conception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48520" y="3406680"/>
            <a:ext cx="304776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L ’AMDEC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démarche à la fois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qualitative </a:t>
            </a:r>
            <a:r>
              <a:rPr b="0" lang="fr-FR" sz="2800" spc="-1" strike="noStrike">
                <a:solidFill>
                  <a:srgbClr val="99ffcc"/>
                </a:solidFill>
                <a:latin typeface="Impact"/>
              </a:rPr>
              <a:t>et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 quantitativ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Découpage Fonctionnel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Modes de Défaillanc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Caus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Effet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otation de paramètres (Fréquence d ’apparition , Gravité 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alcul de la Criticité à partir de ces paramètr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Mesure des résultats 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2057400"/>
            <a:ext cx="3276360" cy="1752480"/>
          </a:xfrm>
          <a:prstGeom prst="wedgeEllipseCallout">
            <a:avLst>
              <a:gd name="adj1" fmla="val -53342"/>
              <a:gd name="adj2" fmla="val 8079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MARC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ELIOR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QUI PERME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UNE EVOLUTION POSITIV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S SITU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LES PLUS CRITIQUES…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038480"/>
            <a:ext cx="2895480" cy="1447920"/>
          </a:xfrm>
          <a:prstGeom prst="wedgeEllipseCallout">
            <a:avLst>
              <a:gd name="adj1" fmla="val -115185"/>
              <a:gd name="adj2" fmla="val 47259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SI ELLE EST PRATIQU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UR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EQUIPEMENTS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PLUS PENALIS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962520"/>
            <a:ext cx="4191120" cy="1066680"/>
          </a:xfrm>
          <a:prstGeom prst="cloudCallout">
            <a:avLst>
              <a:gd name="adj1" fmla="val 44999"/>
              <a:gd name="adj2" fmla="val 4464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..…D ’OU UNE MOTIVATION DU 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TECHNIQUE ET D ’EXPLOI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Dans le cas d’un système informatique il s’agit d’impliquer tous les acteurs…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219320" y="692280"/>
            <a:ext cx="7772400" cy="86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Une méthode de manag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Participative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…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Mise en commun des expériences de chacu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438280"/>
            <a:ext cx="403884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Systè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4572000" cy="76212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process et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038480"/>
            <a:ext cx="4343400" cy="6098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chnic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724280"/>
            <a:ext cx="396216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eurs fin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362560"/>
            <a:ext cx="8001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changes Techniques entre les différentes équi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6324480"/>
            <a:ext cx="7772400" cy="4572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roupe de Travail PLURIDISCIPLI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43864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PRINCIPE D’ANALYSE : 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1 : INITIALISATION DE L ’ETUD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le Système étudier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s Objectifs atteindre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Constituer le Groupe de Travai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Etablir le Planning des réun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finir les supports de travail (Grilles , tableaux de saisie ..)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2 : DECOMPOSITION FONCTIONNELLE DE LA MACHI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coupage arborescent  du systèm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de serv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élémentair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TAPE 3: ANALYSE AMDEC DU SYSTEME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Analyse des mécanismes de défaillances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(Modes de défaillance , causes , effets , détections éventuelle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Evaluation de la   CRITICITE 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(Estimation des Temps d ’intervention , des fréquences ‘apparition des défaillances, évaluation des critères de cotation , calcul de la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Proposition  d ’ACTIONS CORRECTIVES  (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réduction des effets par  de la maintenance préventive  , détection préventive , maintenance améliorative , calcul de  la nouvelle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après action 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4 : SYNTHESE DE L ’ETU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Hiérarchisation des défaillances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(liste des pannes résumées , défaillances de causes communes , classement par catégories , symptômes observables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Liste des points critiques et  plan de maintenance éventuel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4572000"/>
            <a:ext cx="79056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1932"/>
                </a:solidFill>
                <a:latin typeface="Impact"/>
              </a:rPr>
              <a:t>LES CRITÈRES ANALYSÉS DANS L’AMDEC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981080"/>
            <a:ext cx="2895480" cy="5335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MODE DE DEFA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590920"/>
            <a:ext cx="2209680" cy="609480"/>
          </a:xfrm>
          <a:prstGeom prst="wedgeRoundRectCallout">
            <a:avLst>
              <a:gd name="adj1" fmla="val -79310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 PEUT-IL ARRIVE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276720"/>
            <a:ext cx="221004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FF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3809880"/>
            <a:ext cx="2133360" cy="60984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LLES EN S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ES CONSEQUENC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876920"/>
            <a:ext cx="2133720" cy="60948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QUOI CET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FA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ST-ELLE ARRIVE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FREQUENCE =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6019920"/>
            <a:ext cx="3048120" cy="761760"/>
          </a:xfrm>
          <a:prstGeom prst="wedgeRoundRectCallout">
            <a:avLst>
              <a:gd name="adj1" fmla="val -61250"/>
              <a:gd name="adj2" fmla="val -8958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FREQUENCE D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S ’appuyer sur 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écu en AMDEC OPERATIONNELL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98108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GRAVITE =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514600"/>
            <a:ext cx="2438280" cy="533520"/>
          </a:xfrm>
          <a:prstGeom prst="wedgeRectCallout">
            <a:avLst>
              <a:gd name="adj1" fmla="val -66407"/>
              <a:gd name="adj2" fmla="val 47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QUAL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NN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124080"/>
            <a:ext cx="2666880" cy="457200"/>
          </a:xfrm>
          <a:prstGeom prst="wedgeRectCallout">
            <a:avLst>
              <a:gd name="adj1" fmla="val -62143"/>
              <a:gd name="adj2" fmla="val 3923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POLLUTION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CCEPTABL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657600"/>
            <a:ext cx="2361960" cy="533520"/>
          </a:xfrm>
          <a:prstGeom prst="wedgeRectCallout">
            <a:avLst>
              <a:gd name="adj1" fmla="val -82259"/>
              <a:gd name="adj2" fmla="val 148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SECUR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ARANTI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267080"/>
            <a:ext cx="2666880" cy="381240"/>
          </a:xfrm>
          <a:prstGeom prst="wedgeRectCallout">
            <a:avLst>
              <a:gd name="adj1" fmla="val -65000"/>
              <a:gd name="adj2" fmla="val -2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SERA LA DU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 L ’INTERVENTI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724280"/>
            <a:ext cx="2438640" cy="685800"/>
          </a:xfrm>
          <a:prstGeom prst="wedgeRectCallout">
            <a:avLst>
              <a:gd name="adj1" fmla="val -73439"/>
              <a:gd name="adj2" fmla="val -3495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S SERONT LES COÛ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RECTS ET INDIR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DETECTION =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6019920"/>
            <a:ext cx="2666880" cy="685800"/>
          </a:xfrm>
          <a:prstGeom prst="wedgeRectCallout">
            <a:avLst>
              <a:gd name="adj1" fmla="val -70712"/>
              <a:gd name="adj2" fmla="val -5717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PROTECTION S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ET EQUIPE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I PERMET DE DETECTER L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952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86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143000"/>
            <a:ext cx="2438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C = FxGx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143000"/>
            <a:ext cx="3962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&gt; Seuil : Action Correc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METHODE DE CALCUL DE LA  </a:t>
            </a:r>
            <a:r>
              <a:rPr b="0" lang="fr-FR" sz="44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057400"/>
            <a:ext cx="449568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CALCULE LA CRITICITE ( NOTEE C OU IPR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 CHAQUE COMBINAIS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« MODE DE DEFAILLANCE-CAUSE-EFFETS 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EFFECTUE POUR CELA  LE 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xG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2004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716000">
            <a:off x="1739520" y="2666880"/>
            <a:ext cx="852480" cy="990720"/>
          </a:xfrm>
          <a:custGeom>
            <a:avLst/>
            <a:gdLst>
              <a:gd name="textAreaLeft" fmla="*/ 284040 w 852480"/>
              <a:gd name="textAreaRight" fmla="*/ 711720 w 852480"/>
              <a:gd name="textAreaTop" fmla="*/ 581040 h 990720"/>
              <a:gd name="textAreaBottom" fmla="*/ 8269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38"/>
                </a:moveTo>
                <a:lnTo>
                  <a:pt x="12667" y="16238"/>
                </a:lnTo>
                <a:lnTo>
                  <a:pt x="12667" y="7194"/>
                </a:lnTo>
                <a:lnTo>
                  <a:pt x="9096" y="7194"/>
                </a:lnTo>
                <a:lnTo>
                  <a:pt x="15348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281200">
            <a:off x="7112520" y="27165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657600"/>
            <a:ext cx="2438640" cy="99072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et D sont cotés de 1 à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vec G cotée à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733920"/>
            <a:ext cx="1981080" cy="83808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1&lt;C&lt;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de 1 à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(cas le plus fréquent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3581280"/>
            <a:ext cx="2210040" cy="106704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1 à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876920"/>
            <a:ext cx="3352680" cy="914400"/>
          </a:xfrm>
          <a:prstGeom prst="flowChartInputOutpu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n se fixe 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valeur maxi pour 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n général C&lt;25% de la note max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281200">
            <a:off x="6329880" y="5118480"/>
            <a:ext cx="430200" cy="609480"/>
          </a:xfrm>
          <a:custGeom>
            <a:avLst/>
            <a:gdLst>
              <a:gd name="textAreaLeft" fmla="*/ 0 w 430200"/>
              <a:gd name="textAreaRight" fmla="*/ 430560 w 430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5638680"/>
            <a:ext cx="1981080" cy="9144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as d ’action corr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à envisa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auf si Pb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ollution ou de Sécurit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716000">
            <a:off x="1676520" y="5334120"/>
            <a:ext cx="1676160" cy="457200"/>
          </a:xfrm>
          <a:custGeom>
            <a:avLst/>
            <a:gdLst>
              <a:gd name="textAreaLeft" fmla="*/ 558360 w 1676160"/>
              <a:gd name="textAreaRight" fmla="*/ 1399320 w 1676160"/>
              <a:gd name="textAreaTop" fmla="*/ 311400 h 457200"/>
              <a:gd name="textAreaBottom" fmla="*/ 3816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274"/>
                </a:moveTo>
                <a:lnTo>
                  <a:pt x="14703" y="18274"/>
                </a:lnTo>
                <a:lnTo>
                  <a:pt x="14703" y="7194"/>
                </a:lnTo>
                <a:lnTo>
                  <a:pt x="11132" y="7194"/>
                </a:lnTo>
                <a:lnTo>
                  <a:pt x="16366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5791320"/>
            <a:ext cx="1828800" cy="99036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g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Actions à définir av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le groupe de travai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bjectif:ramen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 (ou à 16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57913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095880"/>
            <a:ext cx="2590920" cy="7621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On considérera toujours un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défaillan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comme « critique »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lorsque sa note G est maxi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POUR L ’ETAPE 2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 DECOUPAGE ARBORESCENT DE LA MACHIN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87280" y="1989000"/>
            <a:ext cx="7743600" cy="3932280"/>
            <a:chOff x="1187280" y="1989000"/>
            <a:chExt cx="7743600" cy="3932280"/>
          </a:xfrm>
        </p:grpSpPr>
        <p:cxnSp>
          <p:nvCxnSpPr>
            <p:cNvPr id="245" name="_s13316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3116160" y="492588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" name="_s133166"/>
            <p:cNvCxnSpPr>
              <a:stCxn id="249" idx="0"/>
              <a:endCxn id="247" idx="2"/>
            </p:cNvCxnSpPr>
            <p:nvPr/>
          </p:nvCxnSpPr>
          <p:spPr>
            <a:xfrm flipH="1" flipV="1" rot="5400000">
              <a:off x="2270520" y="492624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" name="_s133164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3650040" y="4042800"/>
              <a:ext cx="229320" cy="1241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" name="_s133162"/>
            <p:cNvCxnSpPr>
              <a:stCxn id="247" idx="0"/>
              <a:endCxn id="252" idx="2"/>
            </p:cNvCxnSpPr>
            <p:nvPr/>
          </p:nvCxnSpPr>
          <p:spPr>
            <a:xfrm flipH="1" flipV="1" rot="5400000">
              <a:off x="2861640" y="4494960"/>
              <a:ext cx="229320" cy="337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" name="_s133160"/>
            <p:cNvCxnSpPr>
              <a:stCxn id="255" idx="0"/>
              <a:endCxn id="256" idx="2"/>
            </p:cNvCxnSpPr>
            <p:nvPr/>
          </p:nvCxnSpPr>
          <p:spPr>
            <a:xfrm flipV="1" rot="16200000">
              <a:off x="4100400" y="3244680"/>
              <a:ext cx="229320" cy="1465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" name="_s133158"/>
            <p:cNvCxnSpPr>
              <a:stCxn id="252" idx="0"/>
              <a:endCxn id="256" idx="2"/>
            </p:cNvCxnSpPr>
            <p:nvPr/>
          </p:nvCxnSpPr>
          <p:spPr>
            <a:xfrm flipH="1" flipV="1" rot="5400000">
              <a:off x="3198960" y="3808800"/>
              <a:ext cx="229320" cy="338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8" name="_s133156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6364440" y="1871280"/>
              <a:ext cx="229320" cy="2841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1" name="_s133154"/>
            <p:cNvCxnSpPr>
              <a:stCxn id="262" idx="0"/>
              <a:endCxn id="260" idx="2"/>
            </p:cNvCxnSpPr>
            <p:nvPr/>
          </p:nvCxnSpPr>
          <p:spPr>
            <a:xfrm flipV="1" rot="16200000">
              <a:off x="5259600" y="2976120"/>
              <a:ext cx="229320" cy="631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3" name="_s133152"/>
            <p:cNvCxnSpPr>
              <a:stCxn id="256" idx="0"/>
              <a:endCxn id="260" idx="2"/>
            </p:cNvCxnSpPr>
            <p:nvPr/>
          </p:nvCxnSpPr>
          <p:spPr>
            <a:xfrm flipH="1" flipV="1" rot="5400000">
              <a:off x="4156200" y="2503440"/>
              <a:ext cx="229320" cy="1577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264" name=""/>
            <p:cNvSpPr/>
            <p:nvPr/>
          </p:nvSpPr>
          <p:spPr>
            <a:xfrm>
              <a:off x="1187280" y="1989000"/>
              <a:ext cx="5135760" cy="423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_s133150"/>
            <p:cNvSpPr/>
            <p:nvPr/>
          </p:nvSpPr>
          <p:spPr>
            <a:xfrm>
              <a:off x="4559040" y="2720880"/>
              <a:ext cx="10000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0080"/>
                  </a:solidFill>
                  <a:latin typeface="Arial"/>
                </a:rPr>
                <a:t>SYSTEME 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_s133151"/>
            <p:cNvSpPr/>
            <p:nvPr/>
          </p:nvSpPr>
          <p:spPr>
            <a:xfrm>
              <a:off x="245124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133153"/>
            <p:cNvSpPr/>
            <p:nvPr/>
          </p:nvSpPr>
          <p:spPr>
            <a:xfrm>
              <a:off x="465948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_s133155"/>
            <p:cNvSpPr/>
            <p:nvPr/>
          </p:nvSpPr>
          <p:spPr>
            <a:xfrm>
              <a:off x="686736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_s133157"/>
            <p:cNvSpPr/>
            <p:nvPr/>
          </p:nvSpPr>
          <p:spPr>
            <a:xfrm>
              <a:off x="2313720" y="4092480"/>
              <a:ext cx="165960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133159"/>
            <p:cNvSpPr/>
            <p:nvPr/>
          </p:nvSpPr>
          <p:spPr>
            <a:xfrm>
              <a:off x="4118040" y="4092480"/>
              <a:ext cx="16599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133161"/>
            <p:cNvSpPr/>
            <p:nvPr/>
          </p:nvSpPr>
          <p:spPr>
            <a:xfrm>
              <a:off x="209016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133163"/>
            <p:cNvSpPr/>
            <p:nvPr/>
          </p:nvSpPr>
          <p:spPr>
            <a:xfrm>
              <a:off x="366768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_s133165"/>
            <p:cNvSpPr/>
            <p:nvPr/>
          </p:nvSpPr>
          <p:spPr>
            <a:xfrm>
              <a:off x="1187280" y="5464080"/>
              <a:ext cx="154764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 1.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_s133167"/>
            <p:cNvSpPr/>
            <p:nvPr/>
          </p:nvSpPr>
          <p:spPr>
            <a:xfrm>
              <a:off x="2879280" y="5464080"/>
              <a:ext cx="15472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1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POUR L ’ETAPE 3 </a:t>
            </a:r>
            <a:br>
              <a:rPr sz="32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EXEMPLE DE GRILLE DE COTATION AMDEC SYSTEME   POUR LE CALCUL DE LA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LA COTATION DES CRITERES F (fréquence) , G (gravité) , D (détection) s ’effectue en général de 1 à 4 (ou à 5 ) , voire de 1 à 10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2971800"/>
          <a:ext cx="8977320" cy="42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89773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Sommaire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La Sûreté de Fonctionnement (S.D.F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ésentation de la méthode générale ADM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Une méthode de manag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incipe d’analy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1 exemple d’utilis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332000" y="1303200"/>
          <a:ext cx="748800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03200"/>
                    <a:ext cx="748800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72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1 Exemple avec un système informatiqu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Découpage fonctionnel du système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42920" y="2287440"/>
          <a:ext cx="809172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87440"/>
                    <a:ext cx="8091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Découpage des sous fonctions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19320" y="2230560"/>
          <a:ext cx="77724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0560"/>
                    <a:ext cx="77724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GRILLE DE COTATION AMDEC SYSTEME :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42920" y="1989000"/>
          <a:ext cx="807084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80708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Impact"/>
              </a:rPr>
              <a:t>ANALYSE AMDEC DU SYSTEME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042920" y="2060640"/>
          <a:ext cx="8064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806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34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méthode qu ’ il convient de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ne pas systématiser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Ne permet pas en général de      prendre en compte les </a:t>
            </a:r>
            <a:r>
              <a:rPr b="0" lang="fr-FR" sz="3200" spc="-1" strike="noStrike">
                <a:solidFill>
                  <a:srgbClr val="ff0000"/>
                </a:solidFill>
                <a:latin typeface="Impact"/>
              </a:rPr>
              <a:t>Combinaisons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de plusieurs défaillance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2049480"/>
            <a:ext cx="1774800" cy="229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352680" y="2514600"/>
            <a:ext cx="2362320" cy="1905120"/>
          </a:xfrm>
          <a:prstGeom prst="wedgeEllipseCallout">
            <a:avLst>
              <a:gd name="adj1" fmla="val -80643"/>
              <a:gd name="adj2" fmla="val 64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COUTS PARF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IMPOR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4343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Analyse des Effets des Erreurs du Logiciel (AEEL)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 AE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st une adaptation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AMDEC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au niveau logiciel car on parl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erreur du logici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t non pas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mode de défaillance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Un des buts de cette analyse est d'obtenir, pour chaque constituant d'un système logiciel,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une évaluation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sous la form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un indice de criticité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représentatif du thème de l'étude que l'on souhaite réaliser 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771640" y="3284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88680"/>
            <a:ext cx="7772400" cy="7239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044800"/>
            <a:ext cx="77724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modélisation comportementale et temporelles (AEF temporisés, rdp, files d’attente,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basés sur l’analyse des événements redoutés (AER,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AMDEC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, Coupes minim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évaluation quantitative : processus markoviens et semi markoviens, rdps, files d’attente, méthode Monte Carlo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analyse statique d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suivi des tes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661440" cy="426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619280" y="2349360"/>
            <a:ext cx="1281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CH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flipH="1">
            <a:off x="4114440" y="3962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905120" y="3124080"/>
            <a:ext cx="1676160" cy="145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 MOY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PRODU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371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ésentation</a:t>
            </a:r>
            <a:r>
              <a:rPr b="0" lang="fr-FR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 la méthode générale ADM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QUELQUES DEFINITIONS AVANT TOUT….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et de leurs Effe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A:Failure Mode ,Effects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C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, de leurs Effets et de leur Criticité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CA:Failure Mode ,Effects and Criticality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05720" y="4648320"/>
            <a:ext cx="138600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410080" y="1981080"/>
            <a:ext cx="3733920" cy="2210040"/>
          </a:xfrm>
          <a:prstGeom prst="wedgeEllipseCallout">
            <a:avLst>
              <a:gd name="adj1" fmla="val 18152"/>
              <a:gd name="adj2" fmla="val 7420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 MOY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 PRODUCTION (ou système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t /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e l ’Exploitation 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quipements de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pour améliorer l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ISPONI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5181480"/>
            <a:ext cx="3657600" cy="1295640"/>
          </a:xfrm>
          <a:prstGeom prst="wedgeRoundRectCallout">
            <a:avLst>
              <a:gd name="adj1" fmla="val 93097"/>
              <a:gd name="adj2" fmla="val -968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CESSU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opérations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oduction pour améliorer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de FABRIC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u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057400"/>
            <a:ext cx="2743200" cy="1143000"/>
          </a:xfrm>
          <a:prstGeom prst="wedgeRoundRectCallout">
            <a:avLst>
              <a:gd name="adj1" fmla="val 139699"/>
              <a:gd name="adj2" fmla="val 21680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DUI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 ’un produi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et s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4724280"/>
            <a:ext cx="1293840" cy="182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6240" y="6556320"/>
            <a:ext cx="8532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Times New Roman"/>
              </a:rPr>
              <a:t>ON  PARLE  MAINTENANT  EGALEMENT  D ’AMDEC  SERVICE…ET  D ’AMDEC FOURNISSEURS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505320"/>
            <a:ext cx="2819520" cy="1447560"/>
          </a:xfrm>
          <a:prstGeom prst="wedgeRoundRectCallout">
            <a:avLst>
              <a:gd name="adj1" fmla="val 158222"/>
              <a:gd name="adj2" fmla="val 7774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SECURIT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défaill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et d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évisionnels s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un équip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Sécurité et l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94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Impact"/>
              </a:rPr>
              <a:t>Plusieurs types d’AMDEC sont utilisées lors des différentes phases de conception ainsi qu’en exploitation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OBJECTIFS DE L ’AMDEC MOYEN DE PRODUC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56386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valuer et Garantir: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Fi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Mainten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Disponi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Sécur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238880" y="4994280"/>
            <a:ext cx="1600200" cy="1535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800600" y="2133720"/>
            <a:ext cx="4038480" cy="2286000"/>
          </a:xfrm>
          <a:prstGeom prst="wedgeEllipseCallout">
            <a:avLst>
              <a:gd name="adj1" fmla="val -66745"/>
              <a:gd name="adj2" fmla="val 2055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LA SÛRET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FONCTI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D F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876920"/>
            <a:ext cx="6906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Obtenir au meilleur coût l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Rendement Global Maximum d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quipements de Prod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VISE A …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Prise en compte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BILITE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dés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CONCEP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TESTABILI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ide au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DIAGNOSTI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NCE CORRECTIV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410080" y="5105520"/>
            <a:ext cx="1905120" cy="163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2666880"/>
            <a:ext cx="3124080" cy="2133720"/>
          </a:xfrm>
          <a:prstGeom prst="wedgeEllipseCallout">
            <a:avLst>
              <a:gd name="adj1" fmla="val -33333"/>
              <a:gd name="adj2" fmla="val 7157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OUTIEN  LOGIS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INT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L I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0574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Réduire les Temps  d ’Indisponibilité après défa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L. DAUJEARD</dc:creator>
  <dc:description/>
  <dc:language>en-US</dc:language>
  <cp:lastModifiedBy>Djino</cp:lastModifiedBy>
  <cp:lastPrinted>1999-08-25T14:15:26Z</cp:lastPrinted>
  <dcterms:modified xsi:type="dcterms:W3CDTF">2002-11-09T15:31:10Z</dcterms:modified>
  <cp:revision>285</cp:revision>
  <dc:subject>AMDEC</dc:subject>
  <dc:title>AMDEC MACHINE</dc:title>
</cp:coreProperties>
</file>