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C4B-6FB6-4475-8861-DD695A46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80D-7ABA-412F-99B3-A9F8A50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5C-56DE-437A-B1F2-B04494C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ECC-756B-4005-9414-5559265B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3513-E843-4D2D-9825-DEC7FF45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72C-BA0F-4B7A-A27D-D13C0E6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8454-DEE9-48A8-A1C5-D0F952B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F575-CA01-418B-B360-0097124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104-9A10-4E8B-A0AD-83F8027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E9B0-EC27-4D5E-8A4D-F7CA266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E2A-CFC3-4B4C-A538-098AB8B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EF4-0F53-4F40-B8E3-1C39A4F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05E-983D-40A0-B1DC-0E342A98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19FF-AEF3-4438-BF6C-06E084C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676E-BC2C-45F7-B92C-CE60AED5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DFB0-669C-4E92-92AA-F9C45A3A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48A-4706-4BB2-B439-75F93101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1F2-1757-4862-AEE7-E927335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9D-419E-40BD-B757-798C0A3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86-DA8A-49A4-8904-5514AB17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DBB-8671-41BB-A475-F34BF38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E9A-E0B0-4C94-9FA7-611D0BA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097-6D32-4990-8DB5-BB050BFC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45A-A3D6-45C8-8700-C77B383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B67-B7CD-4143-AF49-C7807465FEBC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1EA-F098-427B-89C5-E8FFBA6404FA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Impact"/>
              </a:rPr>
              <a:t>LA SURETE DE FONCTIONNEMENT ( S D F )</a:t>
            </a:r>
            <a:endParaRPr b="0" lang="en-US" sz="3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2590920"/>
            <a:ext cx="2428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PARTI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484360" y="3068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FINITION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2133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ABILITE , MAINTENABILITE , DISPONIBILITE , SECU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1952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895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PREVISIONNELS EVALUES SUR UN SYSTEME EN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8128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343400"/>
            <a:ext cx="3352680" cy="99072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ENS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STE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4267080"/>
            <a:ext cx="3505320" cy="106704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ALUATION 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SQUES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1295280" cy="12952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8514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RESIDUELS SUR UN SYSTEME EN EXPLOITATION OPERA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2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INCIPES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057400"/>
            <a:ext cx="259092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886200"/>
            <a:ext cx="16002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D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INTEN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962520"/>
            <a:ext cx="18288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FAILL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9718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5105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057400"/>
            <a:ext cx="25146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057400"/>
            <a:ext cx="259056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LIMINAI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Fi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Mainten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5638680"/>
            <a:ext cx="1828800" cy="106704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Sécur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51055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0292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2971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429000"/>
            <a:ext cx="6324480" cy="152280"/>
          </a:xfrm>
          <a:prstGeom prst="rect">
            <a:avLst/>
          </a:prstGeom>
          <a:solidFill>
            <a:srgbClr val="001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172200"/>
            <a:ext cx="29718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 la Disponi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172200"/>
            <a:ext cx="685800" cy="457200"/>
          </a:xfrm>
          <a:custGeom>
            <a:avLst/>
            <a:gdLst>
              <a:gd name="textAreaLeft" fmla="*/ 91800 w 685800"/>
              <a:gd name="textAreaRight" fmla="*/ 594000 w 6858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6172200"/>
            <a:ext cx="733680" cy="533520"/>
          </a:xfrm>
          <a:custGeom>
            <a:avLst/>
            <a:gdLst>
              <a:gd name="textAreaLeft" fmla="*/ 98280 w 733680"/>
              <a:gd name="textAreaRight" fmla="*/ 635400 w 7336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029200"/>
            <a:ext cx="3962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8229600" cy="5370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EXEMPLE DE DECOUPAGE FONCTIONNEL D ’UN SYSTEM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434960"/>
            <a:ext cx="8153280" cy="5423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Impact"/>
              </a:rPr>
              <a:t>EXEMPLE D ’ANALYSE FONCTIONNELLE DES ETATS D ’UN SYSTEME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QUANTITATIVE ET DIAGRAMM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3623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 partir de l ’analyse fonctionnelle, on dresse une schématisation du système sous forme de diagrammes  afin de montrer les équipements en série et en redond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19112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800100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343400"/>
            <a:ext cx="38088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272120"/>
            <a:ext cx="7621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95280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79124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7339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4197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7996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4343400"/>
            <a:ext cx="38124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886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9625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464796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0292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62284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En introduisant les données quantitatives (MTBF, MTTR..), il est possible de tracer les courbes de fiabilité, maintenabilité et disponibilité en fonction du te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554120"/>
            <a:ext cx="8153280" cy="5303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6665760" cy="8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EXEMPLE DE COURB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PRELIMINAIRE DES RISQUES ET ARBRES DE DEFAILLA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05740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 ’objectif est de mettre en évidence les combinaisons possibles d ’événements qui entraînent la réalisation d ’événements redoutés et de représenter ces combinaisons sous la forme d ’une structure arboresc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086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34520" y="2057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M.L. DAUJEARD</dc:creator>
  <dc:description/>
  <dc:language>en-US</dc:language>
  <cp:lastModifiedBy>Djino</cp:lastModifiedBy>
  <cp:lastPrinted>1998-09-15T11:37:22Z</cp:lastPrinted>
  <dcterms:modified xsi:type="dcterms:W3CDTF">2002-11-09T15:22:47Z</dcterms:modified>
  <cp:revision>176</cp:revision>
  <dc:subject/>
  <dc:title>PROFIL ET AVENIR DE L ’HOMME DE MAINTENANCE DE DEMAIN……...</dc:title>
</cp:coreProperties>
</file>