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423A-5E7D-4445-A847-46CD6284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72EA-F8EB-4928-9D66-C9843645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AA2A-2604-44F7-8EB5-2451E273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7772-28E4-4BDF-9C66-F27E1AB4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157A-6B3A-4EF8-BAE5-20750336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499A-4C04-41E7-A35D-BB0B4FA2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7FB5-AF91-4224-91BD-033363ED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BA5F-15CB-4B9F-B374-946C2116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53BA-2684-4855-89C6-0DBBF26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4FDB-B5FD-4E91-A9D1-F42F9B8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8E77-C8B4-46E7-86E8-4EA0917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FDF4-46FF-48B2-81CD-C4F5E0E3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B55C-9E1E-437E-8294-BA2017EC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3A8-805F-4E17-BE4C-CBD0E39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0672-881E-44AE-85E8-ADDF973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3E12-7F3D-4F80-A5D8-4BD1F43C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6EA0-9AD1-42F7-BFC1-6E902B24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D453-6C98-4066-9BAC-3779A949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72E1-CA2B-4364-848F-31D0E26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C0D5-A46C-4985-ABF1-3B6122FF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C701-25B1-4328-AF52-E23972B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62A6-D50A-444C-A0D6-C8BBBEB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0C92-50FF-4F64-AC73-84FF3CF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B68D-2B19-4EFC-BE48-7FC1A6E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025-1122-4C0D-9EBE-C86CC3DDC36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762120"/>
            <a:ext cx="6858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nd2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45820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8E5-3837-4A29-8172-5981854ACE1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2743200"/>
            <a:ext cx="7238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56386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brice AGU - IR2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002-200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6002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Serveurs d’application web pour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C154-3E7D-4D67-BB1A-BB26D583D6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élange de code HTML et de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é en HTML par le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3429000"/>
          <a:ext cx="805788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80578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D911-029C-4A72-B847-0E377CC97D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 - Exe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exempleCodeJSP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6115-266F-4962-A0B5-2C8345EF0E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s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514600"/>
          <a:ext cx="533412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53341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Génériques, réutilisables, maintenance fac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’ajoutent simplement au sein d’un s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C155-F3CF-4EBD-94DC-2EE3F02F7E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 Java – Exemple : Casto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ut : supprimer toutes requêtes SQ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ooling de connexions (groupes de connexion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438280"/>
          <a:ext cx="5662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5662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apping de la BDD (format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4612-C185-44CB-B13B-0D6CD73B78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norama de quelque AS pour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322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8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0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DAD5-6B67-4485-8516-DDF38C519F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des principaux A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testés : WebLogic, WebSphere, JRun, JBo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ints soulevés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mpatibil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érennité / Réfé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ichesse fonctionnel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û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43CE-F6D5-4667-B7DC-A6C93C00FE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Compatibilit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447920"/>
          <a:ext cx="749628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96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d’exploit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670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BDD reconnue par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800600"/>
            <a:ext cx="7696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rme JSP 1.0 et 1.1 / Jav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A42A-0296-49E6-984B-43101EA655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Pérennité / référenc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Outils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oit représenter l'offre leader de l'éditeur.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diteur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aille importante et ne pas être en position de se faire racheter / DCP / RJ / LJ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6553440" cy="36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4381-EA5D-4333-A6A9-E5CD8099C4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-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ichesse fonctionnel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nctions supplémentaires, monté en charge, facilité d’utilisation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2286000"/>
          <a:ext cx="6933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933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525C-474B-49ED-9639-1E8C3FCC06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 - Coû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371600"/>
          <a:ext cx="787248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72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500B-3EFC-4918-B072-1A1D0C2C76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lan de la présen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 quoi ça ser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Qu’est-ce que c’es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urquoi Java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Java Server Pag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anorama de quelques Serveurs d’applic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859E-7A04-49C6-A5AC-B76048C272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émonstration…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8" name="Concole%20Was%20PPT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A7D8-6150-4BAC-916A-BF6582A24D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dédié Java : site Internet de grande envergure (rapidité, coût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s logiciels libres et/ou gratuits n’ont pas encore leur place dans ce domai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026B-6CF3-4FB9-BBE8-11DBA50C04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057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Ques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F842-0E6F-4DE5-99FF-65CCE22E70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 quoi ça sert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esoins sur Internet / Intranet / Extranet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mmuniquer avec des bases de donné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sulter des web servic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ffectuer des recherch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olution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e dynamique (Google, leMonde.fr, Météo France, SNCF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tilisation d’un serveur d’application 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2641-6DE6-4E26-AC3A-679E7E489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Qu’est-ce qu’un Serveur d’application web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ogici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ué entre le navigateur web et le back-office (scripts, bases de donnée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Définition :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 environnement de l'architecture qui fournit les briques techniques nécessaires à l'exécution d'applications web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TTENTION : APACHE N’EST PAS UN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5041-932E-40EC-8FA3-9F08C2BD53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tructure d’un serveur Interne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14400"/>
          <a:ext cx="8381880" cy="54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818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35AA-512A-4F4D-BD03-BAED604F9E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nctionnalités attendu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support des plates-form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Unix, Window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épartition de charg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ultiprocess, clustering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eprise sur incident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watchdog, redirection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pooling de connexion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ontée en charge, Cast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ouverture vers l'existant, le respect des standard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rveur HTTP, BDD, ERP, XML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gestion de contexte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ssions internaut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sécurité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administration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(interfaces, facilité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productivité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time-to-market, outils supplémentair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7E21-3BCC-4997-A370-822D7CB433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rchitect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archi%20-%209iAS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3886200" cy="2949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utes ces fonctionnalités impliquent une architecture !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us les Serveurs d’application (AS) ont une architect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archi%20-%20jboss4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5" name="archi%20-%20general" descr=""/>
          <p:cNvPicPr/>
          <p:nvPr/>
        </p:nvPicPr>
        <p:blipFill>
          <a:blip r:embed="rId3"/>
          <a:stretch/>
        </p:blipFill>
        <p:spPr>
          <a:xfrm>
            <a:off x="2590920" y="2666880"/>
            <a:ext cx="335268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51F8-669A-4A4D-8739-B0206A6E23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arges - Nombre de Connex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websphere%20workload%20example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15364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8DFB-5C30-4751-8461-4691C87860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ourquoi Java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ogrammation orienté obje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éutilisation des composants, répartition mod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éveloppement simple, rap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ultiplatefo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nix, Linux, Windows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apidité d’exécu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Forte pérennité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=&gt; JS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B1D3-4E89-4568-B788-FE7C9030D5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6:31:28Z</dcterms:created>
  <dc:creator>Fabrice AGU</dc:creator>
  <dc:description/>
  <dc:language>en-US</dc:language>
  <cp:lastModifiedBy>fagu</cp:lastModifiedBy>
  <dcterms:modified xsi:type="dcterms:W3CDTF">2002-10-23T21:18:24Z</dcterms:modified>
  <cp:revision>317</cp:revision>
  <dc:subject>Serveurs d'application web pour java</dc:subject>
  <dc:title>Serveurs d'application web pour java</dc:title>
</cp:coreProperties>
</file>